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503E-8F1E-402C-8E70-33A61FF653F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5C3C-7D43-4101-A6FC-385915519F13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C77-7776-4DFB-8F9A-3EC26ECA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58A-B647-4C3A-8014-0ABFEB0A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B7D-71CD-4E50-A4B7-454C1BBB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A0B-5B7D-4791-9240-9E9D5A27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E94-EBD2-483B-9A16-6B194BBC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7BA-D8F1-4B6D-92E9-629294D4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E3B-BD1F-41BF-981F-FF1A6B15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65C-CC7A-4CC1-8C44-96CB8F0A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3CD-D832-4C8E-B600-6204940E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F53-4071-4BDF-AA98-B8624F5B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BF97-C449-4958-BA15-B8AECED1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283-04EF-4272-A08D-9661B0BF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BE24-5A19-49FF-AB2F-31A17A5B57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920" y="2714400"/>
            <a:ext cx="3767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Představení fakulty, </a:t>
            </a:r>
            <a:br>
              <a:rPr sz="2000"/>
            </a:b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ústavu K6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4941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Prof. Dr. Ing. Miroslav Sví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Pavel Hrubeš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4360" y="5200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věten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Multimetr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ost a spolehlivost telematických systémů a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, implementaci, ověřování a akreditaci různých (pozemních i kosmických) telematických systémů a zařízení zejména systémy železniční zabezpečovací techniky tak, aby byly garantovány požadované systémové parametry. K daným aplikacím budou přidány i systémy testování a certifikace vybraných aplikací dle platných směrnic a standard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Martin Les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g. Faran, Ing. Fábera, Ing. Marvan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ční a navigační systé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zahrnuje návrh, implementaci a ověřování různých navigačních a identifikačních systémů s komponentami geoinformatiky jako jsou systémy automatického tísňového volání, systémy dynamické navigace, satelitní systémy elektronického mýtného, systémy pro sledování přepravy nebezpečných nákladů, atd. K daným aplikacím budou realizovány i systémy testování a certifik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ng. Petr Bureš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. Zelinka, Ing. Hrubeš, Ing. Vlčková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ěžej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mat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PM Con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D Telematika,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 pro dopravní te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 veřejné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ci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ství silnic a dál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a železniční dopravní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istrát hl. m.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operace ústavu v oblasti V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verzita Pardub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arykova univerzita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univerzita Lib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učení technické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škola báňská- Technická univerzita O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Informatiky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linská univerz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Del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Mni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Link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South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technica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S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i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eškeré formy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ministerstev (MPO, MD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ací projekty (E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odbor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4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Pavel Hrube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viktská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0 00 Prah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:   http://www.lss.fd.cvut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hrubes@lss.fd.cvut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.:  (+420) 224 359 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  (+420) 224 359 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.:  (+420) 739 604 7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klizen"/>
          <p:cNvPicPr/>
          <p:nvPr/>
        </p:nvPicPr>
        <p:blipFill>
          <a:blip r:embed="rId1"/>
          <a:stretch/>
        </p:blipFill>
        <p:spPr>
          <a:xfrm>
            <a:off x="5072040" y="3571920"/>
            <a:ext cx="3786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first-page"/>
          <p:cNvPicPr/>
          <p:nvPr/>
        </p:nvPicPr>
        <p:blipFill>
          <a:blip r:embed="rId1"/>
          <a:stretch/>
        </p:blipFill>
        <p:spPr>
          <a:xfrm>
            <a:off x="1612800" y="857160"/>
            <a:ext cx="7245360" cy="543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71500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070413FotoVyuka2OPRLZ035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114880" y="958680"/>
            <a:ext cx="3508560" cy="2408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Poslucharny 109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114880" y="369576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ravní systémy a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a ekonomika dopravy    a tele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zace a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ligentní doprav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ecká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ionální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a údržba leta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firma"/>
          <p:cNvPicPr/>
          <p:nvPr/>
        </p:nvPicPr>
        <p:blipFill>
          <a:blip r:embed="rId1">
            <a:lum bright="64000"/>
          </a:blip>
          <a:srcRect l="0" t="0" r="2483" b="0"/>
          <a:stretch/>
        </p:blipFill>
        <p:spPr>
          <a:xfrm>
            <a:off x="5329080" y="92880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wi2"/>
          <p:cNvPicPr/>
          <p:nvPr/>
        </p:nvPicPr>
        <p:blipFill>
          <a:blip r:embed="rId2">
            <a:lum bright="52000"/>
          </a:blip>
          <a:stretch/>
        </p:blipFill>
        <p:spPr>
          <a:xfrm>
            <a:off x="4824360" y="3952800"/>
            <a:ext cx="41767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aplikované mat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ekonomiky a managementu doprav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informatik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jazyků a společenský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 tech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zení dopravních procesů a log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mechaniky a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dicí techniky a tel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letecké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soudního znalectví v dop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pro bakalářská studia - pracoviště Dě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914040"/>
            <a:ext cx="6053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. Dr. Ing. Miroslav Sv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oucí ú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ca 40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.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. za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1357560" cy="180972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7"/>
          <p:cNvSpPr/>
          <p:nvPr/>
        </p:nvSpPr>
        <p:spPr>
          <a:xfrm>
            <a:off x="1357200" y="378612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ivity ústav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uka a vzdělávání, škol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ědecko - výzkum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Odborná činno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ešeršní práce, posudky, poradens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zkumné zprávy, pilotní pro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měření, testování, certifik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143240" y="1479600"/>
            <a:ext cx="5086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lasti zájmu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23"/>
          <p:cNvSpPr/>
          <p:nvPr/>
        </p:nvSpPr>
        <p:spPr>
          <a:xfrm>
            <a:off x="1285920" y="765000"/>
            <a:ext cx="7858080" cy="607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kupina 21" descr=""/>
          <p:cNvPicPr/>
          <p:nvPr/>
        </p:nvPicPr>
        <p:blipFill>
          <a:blip r:embed="rId1"/>
          <a:stretch/>
        </p:blipFill>
        <p:spPr>
          <a:xfrm>
            <a:off x="-353880" y="871560"/>
            <a:ext cx="9248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tele_sml_prezentac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818320" y="695160"/>
            <a:ext cx="5040360" cy="323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lematické a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rchitektur dopravně - telematických systémů, tvorbu koncepcí a strategií implementace telematických systémů, kontrola kvality telematických systémů, teorie systémů (dynamické aliance), nové metody v telematice (kvantová informatika), elektronické platby, rozsáhlé systémy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Zuzana Bělin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otruba, Prof. Novák, Prof. Svíte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zení do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řídicích systémů pozemní dopravy za pomoci dalších simulačních a modelovacích nástrojů tak, aby byla splněna kriteriální funkce řízení a to jak na úrovni HW, tak i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ladimír Fal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ysoký, Prof. Přibyl, Doc. Tich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1010372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3986280" y="3457440"/>
            <a:ext cx="5157720" cy="29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ý faktor v do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rozhraní člověk-stroj včetně realizace těchto rozhraní na simulátorech. V rámci této oblasti je i skupina zabývající se zpracováním různých signálů (Eye Tracking, Oxygenation Monitor, EEG, EKG,  atd.) a vytěžování těchto dat pro další přidružené oblasti jako je posuzování ovládacích prvků vozidel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Bouchn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f. Novák, Prof. Faber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7:44Z</dcterms:created>
  <dc:creator>Pavel Hrubeš</dc:creator>
  <dc:description/>
  <dc:language>en-US</dc:language>
  <cp:lastModifiedBy>Pavel Hrubeš</cp:lastModifiedBy>
  <dcterms:modified xsi:type="dcterms:W3CDTF">2009-05-13T12:55:13Z</dcterms:modified>
  <cp:revision>685</cp:revision>
  <dc:subject/>
  <dc:title>Pracovní jednání projektu OP RLZ 0352</dc:title>
</cp:coreProperties>
</file>