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5.wmf" ContentType="image/x-wmf"/>
  <Override PartName="/ppt/media/image25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13.jpeg" ContentType="image/jpe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3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993600" y="769680"/>
            <a:ext cx="511200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3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2FAA-0FEB-4C6E-B6CD-CB25501F035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302D-2511-4E87-AB58-C8C05E1994D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888E7-8CC2-4F66-802B-F2356A96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480F6-8E56-41CC-B613-35FFB98B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9B830-2EFC-4145-92A3-2D7A4ACD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719BB-9118-4169-A13C-ED0986D2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1A4C6-8AA7-4EC9-8652-F12AADF0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2FC32-9005-4E1D-BF24-042771A0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D4A71-7251-43CA-9D16-342C2461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9E561-CD2D-4913-B863-2E50D12D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C8F4A-47EB-411B-A494-0260D700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6D022-C7B0-41CB-8F89-E215AEA2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579CF-AEEB-4116-9F38-17D55449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DE4C8-1309-4140-8250-00DEFB67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54BA3-5BA0-4AED-AD7E-F71D3270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93604-AAC2-4566-8FFE-32295A7F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79836-DBDF-45E6-BCB9-4B01A59F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AF245-1DAF-4571-B20C-0AE1E598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82F83-EDD9-4AAA-AA4D-03AC2AD6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365F2-2780-448C-879B-D0D5521D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A8159-22E8-4221-AD5E-3E53052C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0A959-762E-4410-BE7E-E9F29A5D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ABC40-7392-43A3-AB19-49B6163E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65C37-B0C7-4F07-937C-3AF2CBBF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2409B-77FE-47D9-820D-D5A1767E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EAB51-BCCF-4610-82A5-DAEBC789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171E9-5633-4106-BC01-CD9D1E29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87682-237A-4DC2-B3ED-27646F90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40B17-5C46-4E63-9F24-B6A7D5D4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AAF1B-2C87-4571-A023-C3B998A8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0D53F-9F39-456D-B2B4-0E6D485C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81FED-80AF-4C11-9937-7687447A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4294A-34C1-487B-BAA6-2D389563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657F4-BDBB-434A-89CF-196D90AA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C8029-022C-46F1-8FC5-49A0469C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E82C3-10EC-4178-8380-C15860F9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F3DE1-77E1-4A68-B53C-523A5457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E70CC-AACF-440A-997C-772A23F8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4D375-A01C-4401-B2BF-3826DCEB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B6A37-C44A-4F86-965C-D76F0896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7A985-9CD6-4A70-9597-95FD9FB3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13CFE-8D15-40E7-A32A-DE045560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E3121-C8FA-4E33-8DA3-4FDEEE28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40574-5250-4DE0-B025-E959B6C8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2A33D-366A-4359-A957-0202588B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5AAFC-1171-402A-AC4D-492CDD0D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377A5-04E2-4E34-8689-454EB511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5ADDF-9811-444E-9F41-2ADEA6AD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5CC71-8069-4C29-B921-1B371829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B57E5-F939-4920-B9D2-B31FBA31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3128B-BE31-4BD3-8261-BAA5D2DF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B5520-855B-4CF0-B208-5121D29B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5485-351B-4712-8A95-C9244E3D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1FEC-DDDC-4488-A959-77A82134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9D21-2524-42D7-B903-2ED1A169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1C7B-9CA3-43A0-9FC6-FA8C3A7D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EA65-FA3D-4B0B-A900-B3BC038C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8D538-5019-4ECD-B1DF-4944F333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0C97-3297-4BD0-8E1A-58C3E9AB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5D48-ED8C-4CD8-A3BA-33D74541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27DE-90D6-47A3-9F00-E263D2DA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4D59-1F5D-4251-B906-AD8ABE18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20CA-C2F8-47C1-AE54-922111F3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FEA8-98D7-4B66-BEC4-29BFB967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F7DB-D59E-4ECD-ACE1-0A3921B0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42956-A1ED-49D5-9C3F-28017A36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95583-4CBC-45A9-BF3C-3CDAF41A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DC8AA-5BE0-46F5-97D9-725FFF1A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C3FE0-E9C7-4531-9A97-87083D74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05B5A-CF3E-435F-B3C7-80F32922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B6742-7969-443D-A6B6-BA783E57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F36B4-701C-40FF-9D07-0E5015FA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A3AB3-2940-42C6-BBF4-8B44F629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710F6-68A3-4D1E-94F8-CA7474C8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7C93B-99EC-4896-A335-0E1E02CB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DF2C7-3123-4CBF-A3C6-812616D8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FC09D-A222-4CE8-9C2E-4633733B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7C240-9A36-4AE7-AAAA-CDFDBF56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F57C6-84F9-4576-B15E-F04D162D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127DB-46D9-4D70-81A7-645C0349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33815-A267-4BD1-989C-6C2B7B5D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A018D-6776-4C30-8578-9BB7F6B2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88B71-B702-4C22-BCF9-19EB415E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17730-FA11-4C3E-8678-8DD3C8B2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84585-8FB0-4F24-A4FA-49F75E00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B478E-8384-480E-9933-B61D55FD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57981-7441-4E71-8CB5-F823F632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D6F19-F91A-4518-8E45-AADE5C36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484E3-98B6-4CD2-8C44-A4ED99AC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1A9A3-1755-4C5F-84EC-352B52A3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3B0B2-5B50-49CF-B867-0B2F9F1B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04333-72CE-49D4-8A58-B858D1DA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91FCB-FCF5-471C-B2BD-8711F3F8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D8383-123C-4937-9AB8-A5B88C96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9B126-2064-4186-9B26-C275AE50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682A7-F510-4EFC-8043-38BD980A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E941B-42C1-4EEF-87D7-5DEC2BA7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3AB15-B01F-4BD5-88D1-6B458204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BF4F1-2BA4-4F06-883D-84CD007C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1BC8C-D64D-4FA5-84B3-B5C6FC9D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4691B-4CEF-4960-81F5-70BE976F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0E6E8-2335-4F60-97B3-DD059D0D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7E930-6B6D-420F-893C-72440644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9E3B8-00A4-4F66-A298-94A4CBC7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406A5-2F5F-4AF5-846D-5EF219AE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C871C-0692-4515-9E73-769ED4D9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25254-C407-4E16-8062-482AEB79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10DCA-9CBD-4AD5-B1E1-39923722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87ED0-D04D-4561-926B-29E0ABA0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B66BD-6A1B-439E-9F86-7A739194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83E87-D243-4512-A1E7-3B904D99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BB655-63A6-4CF1-8C73-29CA2669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F3B51-86B5-4F31-AB36-1FC95A34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FDD0F-AC08-4EBE-B905-00C1AE71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6784E-0693-4B31-A644-AFA21CF6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30B88-0D03-486C-AA3D-9FAA2E3A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B6A95-9139-41D6-867A-CD8510A2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6DD75-6FC4-4778-B4C6-7D2CAB68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3C389-5469-4949-97BC-B7753849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F010E-2F76-4DFD-8F34-4B6BEDC4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EC5D8-3871-4BC2-858B-296BB443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A20DA-BDE7-4B95-A918-340DDD0F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79FD6-6F35-4012-979E-2AC64D1B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B5F8E-1E5C-4796-BCF7-29C58252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00675-5DE0-4F2E-92B4-12A72600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0AB50-D2F5-44A9-9110-4E199A2A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3D691-52E6-4ABA-984C-EB39B852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5A93A-7011-4B8D-8C36-69E3DC1F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DBAB4-67F3-489B-B103-3A066A2D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0AB76-749D-4155-9759-7299E0F3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3022E-DEA3-4BFB-8CED-AE50683D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4341E-43A3-49CB-8A06-9708498D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B8449-588B-496D-BBEB-F12A6717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9D2A0-A8A7-484D-BD6B-597D2573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7289-F848-48D3-9811-B32FB05E30C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3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6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7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1CF6-2B07-42BD-9B23-A0A5FC31402D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28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8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9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30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F729-9AB4-44F1-8481-D3B87736BA22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1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52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3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2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6766-C194-4D13-B630-B49AD26BDB9D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4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56600" cy="6902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4952880" y="685800"/>
            <a:ext cx="33530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Praze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74720" cy="58608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876920" y="1693800"/>
            <a:ext cx="426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Fakulta dopravní 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876920" y="24210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31a4"/>
                </a:solidFill>
                <a:latin typeface="Arial"/>
              </a:rPr>
              <a:t>Ústav řídicí techniky a telematiky</a:t>
            </a: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9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49A2-C119-4A2F-AE74-72C2DD4ECC05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4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8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9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25F2-070A-438F-BC3F-13826DE3A7D9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0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9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12DB-927F-46A4-BD46-12904334AD5C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4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4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41FF-9CDE-452B-BBBB-80F2DA6AE40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6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8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7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D0E1-C63F-4CA3-A7F5-D3D82E54B06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9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3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0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21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005D-60FD-4096-A0C6-D50E439EBBD1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2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8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3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4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A8A1-6EE8-4F77-BA18-A90EAA99C8ED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5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03640" y="3284640"/>
            <a:ext cx="360072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 CE"/>
              </a:rPr>
              <a:t>Navigační a identifikační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ovéPole 3"/>
          <p:cNvSpPr/>
          <p:nvPr/>
        </p:nvSpPr>
        <p:spPr>
          <a:xfrm>
            <a:off x="5000760" y="5214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CE"/>
              </a:rPr>
              <a:t>Petr Bureš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přepravy nebezpečných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, sledování, plánování a záchranné práce, propojení na další informační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0" name="Picture 3" descr="naklady5%20copy3"/>
          <p:cNvPicPr/>
          <p:nvPr/>
        </p:nvPicPr>
        <p:blipFill>
          <a:blip r:embed="rId1"/>
          <a:stretch/>
        </p:blipFill>
        <p:spPr>
          <a:xfrm>
            <a:off x="5429160" y="3857760"/>
            <a:ext cx="3375000" cy="20286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9"/>
          <p:cNvSpPr/>
          <p:nvPr/>
        </p:nvSpPr>
        <p:spPr>
          <a:xfrm>
            <a:off x="3643200" y="3681360"/>
            <a:ext cx="387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2" name="Picture 10" descr="IMG_0513"/>
          <p:cNvPicPr/>
          <p:nvPr/>
        </p:nvPicPr>
        <p:blipFill>
          <a:blip r:embed="rId2"/>
          <a:stretch/>
        </p:blipFill>
        <p:spPr>
          <a:xfrm>
            <a:off x="1785960" y="3500280"/>
            <a:ext cx="32670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3" name="Object 6"/>
          <p:cNvGraphicFramePr/>
          <p:nvPr/>
        </p:nvGraphicFramePr>
        <p:xfrm>
          <a:off x="4786200" y="4429080"/>
          <a:ext cx="10479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4429080"/>
                    <a:ext cx="1047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sledování a řízení pohybu prostřednictvím GN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u po letištní ploše, propojení s řídícím centrem, výběr komunikačního prostředí, zabezpečení, testování,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8" name="Picture 2" descr="image010"/>
          <p:cNvPicPr/>
          <p:nvPr/>
        </p:nvPicPr>
        <p:blipFill>
          <a:blip r:embed="rId1"/>
          <a:stretch/>
        </p:blipFill>
        <p:spPr>
          <a:xfrm>
            <a:off x="1857240" y="3929040"/>
            <a:ext cx="3159360" cy="2143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2"/>
          <a:stretch/>
        </p:blipFill>
        <p:spPr>
          <a:xfrm>
            <a:off x="5715000" y="3857760"/>
            <a:ext cx="17146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Zástupný symbol pro zápatí 5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sah Prezent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2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pojení ústavu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dynamické navig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telitní systémy elektronického mýtnéh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pro sledování přepravy nebezpečných náklad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ladní informace o projek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stav se podílí na projektech v rámci laboratoře e-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udentsk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tematicky zaměřené projekty (navigace, dopravní informace a identifik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zkumn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VaV MD ČR (dopravní informace, monitorování 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TP MPO ČR (identifikace, telematická jedno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1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popisu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máty a struktura protokolů DATEX2, TMC, TPEG, at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5613480" y="2786040"/>
            <a:ext cx="3530520" cy="2104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2" name="Picture 2" descr="bla2"/>
          <p:cNvPicPr/>
          <p:nvPr/>
        </p:nvPicPr>
        <p:blipFill>
          <a:blip r:embed="rId2"/>
          <a:stretch/>
        </p:blipFill>
        <p:spPr>
          <a:xfrm>
            <a:off x="4500720" y="4071960"/>
            <a:ext cx="2207880" cy="2122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3" name="Picture 8" descr="tmcmsg.jpg"/>
          <p:cNvPicPr/>
          <p:nvPr/>
        </p:nvPicPr>
        <p:blipFill>
          <a:blip r:embed="rId3"/>
          <a:stretch/>
        </p:blipFill>
        <p:spPr>
          <a:xfrm>
            <a:off x="1500120" y="2786040"/>
            <a:ext cx="3500640" cy="2630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1428480" y="85716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lokalizace dopravních inform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dynamický popis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zba DI do mapového pod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2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9" descr="lt_stn_link"/>
          <p:cNvPicPr/>
          <p:nvPr/>
        </p:nvPicPr>
        <p:blipFill>
          <a:blip r:embed="rId1"/>
          <a:stretch/>
        </p:blipFill>
        <p:spPr>
          <a:xfrm>
            <a:off x="1643040" y="3286080"/>
            <a:ext cx="3643200" cy="2587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2"/>
          <a:stretch/>
        </p:blipFill>
        <p:spPr>
          <a:xfrm>
            <a:off x="3786120" y="3214800"/>
            <a:ext cx="4098960" cy="2746440"/>
          </a:xfrm>
          <a:prstGeom prst="rect">
            <a:avLst/>
          </a:prstGeom>
          <a:ln w="0">
            <a:noFill/>
          </a:ln>
        </p:spPr>
      </p:pic>
      <p:grpSp>
        <p:nvGrpSpPr>
          <p:cNvPr id="599" name="Skupina 17"/>
          <p:cNvGrpSpPr/>
          <p:nvPr/>
        </p:nvGrpSpPr>
        <p:grpSpPr>
          <a:xfrm>
            <a:off x="3786120" y="3214800"/>
            <a:ext cx="4006800" cy="2738160"/>
            <a:chOff x="3786120" y="3214800"/>
            <a:chExt cx="4006800" cy="2738160"/>
          </a:xfrm>
        </p:grpSpPr>
        <p:sp>
          <p:nvSpPr>
            <p:cNvPr id="600" name="Obdélník 11"/>
            <p:cNvSpPr/>
            <p:nvPr/>
          </p:nvSpPr>
          <p:spPr>
            <a:xfrm>
              <a:off x="3917880" y="4751280"/>
              <a:ext cx="3583080" cy="1035000"/>
            </a:xfrm>
            <a:prstGeom prst="rect">
              <a:avLst/>
            </a:prstGeom>
            <a:noFill/>
            <a:ln w="25560">
              <a:solidFill>
                <a:srgbClr val="c9dd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grpSp>
          <p:nvGrpSpPr>
            <p:cNvPr id="601" name="Skupina 17"/>
            <p:cNvGrpSpPr/>
            <p:nvPr/>
          </p:nvGrpSpPr>
          <p:grpSpPr>
            <a:xfrm>
              <a:off x="3786120" y="3214800"/>
              <a:ext cx="4006800" cy="2738160"/>
              <a:chOff x="3786120" y="3214800"/>
              <a:chExt cx="4006800" cy="2738160"/>
            </a:xfrm>
          </p:grpSpPr>
          <p:sp>
            <p:nvSpPr>
              <p:cNvPr id="602" name="Obdélník 12"/>
              <p:cNvSpPr/>
              <p:nvPr/>
            </p:nvSpPr>
            <p:spPr>
              <a:xfrm>
                <a:off x="3786120" y="3214800"/>
                <a:ext cx="4006800" cy="153144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3" name="Obdélník 14"/>
              <p:cNvSpPr/>
              <p:nvPr/>
            </p:nvSpPr>
            <p:spPr>
              <a:xfrm>
                <a:off x="3786120" y="4746240"/>
                <a:ext cx="1368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4" name="Obdélník 15"/>
              <p:cNvSpPr/>
              <p:nvPr/>
            </p:nvSpPr>
            <p:spPr>
              <a:xfrm>
                <a:off x="3786120" y="5779800"/>
                <a:ext cx="4006800" cy="17316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5" name="Obdélník 16"/>
              <p:cNvSpPr/>
              <p:nvPr/>
            </p:nvSpPr>
            <p:spPr>
              <a:xfrm>
                <a:off x="7512480" y="4746240"/>
                <a:ext cx="2772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</p:grpSp>
      </p:grpSp>
      <p:pic>
        <p:nvPicPr>
          <p:cNvPr id="606" name="Picture 2" descr="aplagora"/>
          <p:cNvPicPr/>
          <p:nvPr/>
        </p:nvPicPr>
        <p:blipFill>
          <a:blip r:embed="rId3"/>
          <a:stretch/>
        </p:blipFill>
        <p:spPr>
          <a:xfrm>
            <a:off x="6072120" y="3429000"/>
            <a:ext cx="2836800" cy="2338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3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vysílání, příjmu a vizualizace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přenosových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funkčnosti navig. příst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0" name="Obrázek 9" descr="p118_Mio.jpg"/>
          <p:cNvPicPr/>
          <p:nvPr/>
        </p:nvPicPr>
        <p:blipFill>
          <a:blip r:embed="rId1"/>
          <a:stretch/>
        </p:blipFill>
        <p:spPr>
          <a:xfrm>
            <a:off x="5357880" y="4143240"/>
            <a:ext cx="3565440" cy="199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1" name="Picture 2" descr="P1370210"/>
          <p:cNvPicPr/>
          <p:nvPr/>
        </p:nvPicPr>
        <p:blipFill>
          <a:blip r:embed="rId2"/>
          <a:stretch/>
        </p:blipFill>
        <p:spPr>
          <a:xfrm>
            <a:off x="1428840" y="3714840"/>
            <a:ext cx="3692520" cy="2401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2" name="Picture 3" descr=""/>
          <p:cNvPicPr/>
          <p:nvPr/>
        </p:nvPicPr>
        <p:blipFill>
          <a:blip r:embed="rId3"/>
          <a:srcRect l="0" t="16339" r="0" b="13465"/>
          <a:stretch/>
        </p:blipFill>
        <p:spPr>
          <a:xfrm>
            <a:off x="3714840" y="3214800"/>
            <a:ext cx="3200400" cy="168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identifik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tředky ident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a zabezpečení identif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telematických aplik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FC, E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R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1"/>
          <a:stretch/>
        </p:blipFill>
        <p:spPr>
          <a:xfrm>
            <a:off x="5857920" y="3857760"/>
            <a:ext cx="2552760" cy="2038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"/>
          <p:cNvPicPr/>
          <p:nvPr/>
        </p:nvPicPr>
        <p:blipFill>
          <a:blip r:embed="rId2"/>
          <a:stretch/>
        </p:blipFill>
        <p:spPr>
          <a:xfrm>
            <a:off x="2071800" y="3929040"/>
            <a:ext cx="34290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architektury systému mýtné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satelitní systém, hybrid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hybridního systému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národních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em (C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1" name="Picture 5" descr="PC130011"/>
          <p:cNvPicPr/>
          <p:nvPr/>
        </p:nvPicPr>
        <p:blipFill>
          <a:blip r:embed="rId1"/>
          <a:stretch/>
        </p:blipFill>
        <p:spPr>
          <a:xfrm>
            <a:off x="4786200" y="3643200"/>
            <a:ext cx="39290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universální telematické jedno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funkcí, rozhraní a přenosový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voj prototy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5" name="Picture 5" descr="architecture"/>
          <p:cNvPicPr/>
          <p:nvPr/>
        </p:nvPicPr>
        <p:blipFill>
          <a:blip r:embed="rId1"/>
          <a:stretch/>
        </p:blipFill>
        <p:spPr>
          <a:xfrm>
            <a:off x="4714920" y="3857760"/>
            <a:ext cx="4178160" cy="18237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9" descr=""/>
          <p:cNvPicPr/>
          <p:nvPr/>
        </p:nvPicPr>
        <p:blipFill>
          <a:blip r:embed="rId2"/>
          <a:stretch/>
        </p:blipFill>
        <p:spPr>
          <a:xfrm>
            <a:off x="1571760" y="4429080"/>
            <a:ext cx="29289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1:12:06Z</dcterms:created>
  <dc:creator>jakub</dc:creator>
  <dc:description/>
  <dc:language>en-US</dc:language>
  <cp:lastModifiedBy>Pavel Hrubeš</cp:lastModifiedBy>
  <dcterms:modified xsi:type="dcterms:W3CDTF">2009-05-13T07:50:00Z</dcterms:modified>
  <cp:revision>136</cp:revision>
  <dc:subject/>
  <dc:title>Work Package 6</dc:title>
</cp:coreProperties>
</file>