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482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D069C-3152-4C2A-9AEC-3050F5D20F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B5E92-67AA-4982-B050-09E310A803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F1DAF-7E9E-47D6-8638-0B5A1A849C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07E2C-A32C-463E-BE5C-53C142BE4D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4161A-D07F-4038-ADC9-A214C02C17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1C069-712A-4C25-B259-648DC8850B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9FC0E-94E4-442E-85DA-8097642195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81845-C85A-4124-B79C-E6D02C0E2A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FD69C-E04C-4946-B025-A9D9E45D6A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CEA8E-6897-4FB8-908C-1260E63409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80059-CA83-4ED9-879E-66B9E6D5D3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980F2-8252-4C75-ABA9-CAF22D7894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619440" y="6224760"/>
            <a:ext cx="190512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0e85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94BBE-8EBD-470C-B43D-32B0B8ABA08A}" type="slidenum">
              <a:rPr b="1" lang="cs-CZ" sz="1400" spc="-1" strike="noStrike">
                <a:solidFill>
                  <a:srgbClr val="0e85c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400800" y="6248520"/>
            <a:ext cx="2590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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2009</a:t>
            </a: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Ministerstvo průmyslu a obchod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2877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e85c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457200" algn="ctr"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sedlak@mpo.cz" TargetMode="External"/><Relationship Id="rId2" Type="http://schemas.openxmlformats.org/officeDocument/2006/relationships/hyperlink" Target="http://www.mpo.cz/" TargetMode="External"/><Relationship Id="rId3" Type="http://schemas.openxmlformats.org/officeDocument/2006/relationships/hyperlink" Target="http://www.mpo.cz/" TargetMode="External"/><Relationship Id="rId4" Type="http://schemas.openxmlformats.org/officeDocument/2006/relationships/hyperlink" Target="http://www.mpo.cz/" TargetMode="External"/><Relationship Id="rId5" Type="http://schemas.openxmlformats.org/officeDocument/2006/relationships/hyperlink" Target="http://www.mpo.cz/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362320" y="2371680"/>
            <a:ext cx="43178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2666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ESA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4038480"/>
            <a:ext cx="5410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Bc. Vladimír Sedl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8480" y="5775840"/>
            <a:ext cx="4134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e85c0"/>
                </a:solidFill>
                <a:latin typeface="Arial"/>
              </a:rPr>
              <a:t>©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 2009 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  <a:ea typeface="SimSun"/>
              </a:rPr>
              <a:t>Minist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erstvo průmyslu a obcho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bsah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258920"/>
            <a:ext cx="853416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1. Výzva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1.1 Pro koho je určena.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1.2 Rozpočet a určení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2. Podmínky a důvody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5D43C-C19F-4535-86D4-3C517B2C46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Arial"/>
              </a:rPr>
              <a:t>1. Výzva</a:t>
            </a:r>
            <a:r>
              <a:rPr b="1" lang="cs-CZ" sz="3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Dne 16. března 2009 byla v systému EMITS zveřejněna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Výzva pro podávání návrhů projektových záměrů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v rámci pobídkového programu pro český průmysl (tzv. Czech Republic's Industry Incentive Scheme).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Výzva je určena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pouze pro české firmy, univerzity a výzkumná pracoviště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. Zájemci mohou podat zjednodušené „vlastní i již vyvíjené“ projektové návrhy ze všech technologických oblastí, ve kterých se Evropská kosmická agentura (ESA) angažuje (viz slide 5).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V systému EMITS jsou vypsány další konkrétní tendry určené pro ČR s veškerou specifikací a s datem uzávěrky. Pro podrobnější informace je nutná registrace do systému</a:t>
            </a:r>
            <a:r>
              <a:rPr b="1" lang="cs-CZ" sz="2400" spc="-1" strike="noStrike">
                <a:solidFill>
                  <a:srgbClr val="0e85c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84EEA-7D54-4924-BA5D-0B525E0891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1.1 Pro koho jsou určen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Výzva pro podání projektových záměrů s termínem 15. květen je určena pro: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a)    letový hardware, s upřednostněním aktivit spojených se základním vybavením družic, senzorů či obecných technologií s potenciálem opětovného využití (rozpočet návrhu nesmí přesáhnout 1 000 000 Euro),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b)    výzkumné a vývojové aktivity (včetně studií proveditelnosti) vedoucí k produktům (hardware nebo software), službám, ověření technologií, anebo obecným technologiím s potenciálem opětovného využití (rozpočet návrhu nesmí přesáhnout 200 000 Euro),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c)    přípravné aktivity (např. studie, formulace uživatelských požadavků, průzkumy trhu) podporující českou konkurenceschopnost v programech ESA (povinných a volitelných), kterých se Česká republika účastní (rozpočet návrhu nesmí přesáhnout 100 000 Euro).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DABF7-C537-4780-808E-5FC2139EB45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1.2 Rozpočet a určení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Celkový rozpočet vyčleněný pro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tuto Výzvu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je               2 500 000 Euro. V rámci této Výzvy mohou podávat návrhy pouze společnosti nebo organizace sídlící v České republice.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Konsorcia zahrnující společnosti nebo organizace z jiných členských států mohou být schválena pouze v případě náležitého odůvodnění jejich zapojení. Úkoly přidělené subjektům mimo Českou republiku nesmí v žádném případě tvořit hlavní aktivity navrhovaného záměru.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Vzdělávací a informační aktivity nejsou součástí této Výzvy.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BB857-1655-4BD0-8AF2-CF6DF1F2365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2. Podmínky a důvody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0000"/>
                </a:solidFill>
                <a:uFillTx/>
                <a:latin typeface="Times New Roman"/>
              </a:rPr>
              <a:t>Výzva je otevřena pouze do 15. května 2009 </a:t>
            </a:r>
            <a:r>
              <a:rPr b="1" lang="cs-CZ" sz="2400" spc="-1" strike="noStrike" u="sng">
                <a:solidFill>
                  <a:srgbClr val="11a0e7"/>
                </a:solidFill>
                <a:uFillTx/>
                <a:latin typeface="Times New Roman"/>
              </a:rPr>
              <a:t>jen </a:t>
            </a:r>
            <a:r>
              <a:rPr b="1" lang="cs-CZ" sz="2400" spc="-1" strike="noStrike">
                <a:solidFill>
                  <a:srgbClr val="11a0e7"/>
                </a:solidFill>
                <a:latin typeface="Times New Roman"/>
              </a:rPr>
              <a:t>pro podávání návrhů projektových záměrů v rámci pobídkového programu pro český průmysl (tzv. Czech Republic's Industry Incentive Scheme).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1a0e7"/>
                </a:solidFill>
                <a:latin typeface="Times New Roman"/>
              </a:rPr>
              <a:t>Do ostatních tendrů vypsaných v systému EMITS je možno se přihlašovat i nadále do data uzavření vypsaného tendru.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0000"/>
                </a:solidFill>
                <a:uFillTx/>
                <a:latin typeface="Times New Roman"/>
              </a:rPr>
              <a:t>Veškeré schválené projektové záměry budou kompletně financovány agenturou ESA. Registrace v systému EMITS je bezplatná.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0000"/>
                </a:solidFill>
                <a:uFillTx/>
                <a:latin typeface="Times New Roman"/>
              </a:rPr>
              <a:t>Prostor mají veškeré organizace po zaregistrování do systému EMITS.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038C8-6C0A-4F9A-A8C8-713CEDA39B3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Závěr: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Prezentaci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ESA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vytvořil Bc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. Vladimír Sedlák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sedlak@mpo.cz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Tel: +420 224 852 59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Ministerstvo průmyslu a obchodu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Na Františku 32, Praha 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www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mpo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cz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AAF7A-19AD-4718-9F7C-D614E88CDA3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08:56:03Z</dcterms:created>
  <dc:creator>Vladimír Sedlák</dc:creator>
  <dc:description/>
  <dc:language>en-US</dc:language>
  <cp:lastModifiedBy>Vladimír Sedlák </cp:lastModifiedBy>
  <cp:lastPrinted>2009-04-22T19:24:48Z</cp:lastPrinted>
  <dcterms:modified xsi:type="dcterms:W3CDTF">2009-04-23T09:01:21Z</dcterms:modified>
  <cp:revision>38</cp:revision>
  <dc:subject/>
  <dc:title>Prezentace aplikace PowerPoint</dc:title>
</cp:coreProperties>
</file>