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AF9B-1895-4BD3-A04B-FF21E707A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2D86-8D7D-408E-B19D-7197D60D7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6C0D4-AB12-4024-B15C-B77E92B36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0662-4BFB-4F55-A188-816DEFAD3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998F8-E0E4-480C-882C-F95B39B43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6642-454B-4302-8631-9C9AE524B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D8A2D-C7B5-49A7-AB7E-ECD8FBEA5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193B-8192-4B09-BAEF-AC1FB552C5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78EE-9174-43F6-9AE8-DFFA0876D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084B-E2DE-4255-9D96-C2BEEDE4D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66C3-D486-4821-93B3-ED3B84BE3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5F519-A74C-4944-B5CF-DC4356343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76C4-6C43-4CF7-951D-8CF01E5C5C84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MPO%20logo%20RGB200dpi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mailto:sedlak@mpo.cz" TargetMode="External"/><Relationship Id="rId3" Type="http://schemas.openxmlformats.org/officeDocument/2006/relationships/hyperlink" Target="mailto:sedlak@mpo.cz" TargetMode="External"/><Relationship Id="rId4" Type="http://schemas.openxmlformats.org/officeDocument/2006/relationships/hyperlink" Target="mailto:sedlak@mpo.cz" TargetMode="External"/><Relationship Id="rId5" Type="http://schemas.openxmlformats.org/officeDocument/2006/relationships/hyperlink" Target="mailto:sedlak@mpo.cz" TargetMode="External"/><Relationship Id="rId6" Type="http://schemas.openxmlformats.org/officeDocument/2006/relationships/hyperlink" Target="http://www.mpo.cz/" TargetMode="External"/><Relationship Id="rId7" Type="http://schemas.openxmlformats.org/officeDocument/2006/relationships/hyperlink" Target="http://www.mpo.cz/" TargetMode="External"/><Relationship Id="rId8" Type="http://schemas.openxmlformats.org/officeDocument/2006/relationships/hyperlink" Target="http://www.mpo.cz/" TargetMode="External"/><Relationship Id="rId9" Type="http://schemas.openxmlformats.org/officeDocument/2006/relationships/hyperlink" Target="http://www.mpo.cz/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mits.esa.int/emits/owa/emits.main" TargetMode="External"/><Relationship Id="rId2" Type="http://schemas.openxmlformats.org/officeDocument/2006/relationships/hyperlink" Target="http://www.esa.int/home-ind/" TargetMode="External"/><Relationship Id="rId3" Type="http://schemas.openxmlformats.org/officeDocument/2006/relationships/hyperlink" Target="mailto:idhelp@esa.int" TargetMode="External"/><Relationship Id="rId4" Type="http://schemas.openxmlformats.org/officeDocument/2006/relationships/hyperlink" Target="mailto:idhelp@esa.int" TargetMode="External"/><Relationship Id="rId5" Type="http://schemas.openxmlformats.org/officeDocument/2006/relationships/hyperlink" Target="mailto:idhelp@esa.in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mits.esa.int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PO%20logo%20RGB200dpi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yžadované informace jsou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děleny podle typu firmy: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Industrial Firm (průmyslová firma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ervice Firm (služb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Non-Profit Organisation (nezisková organiz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ther (dalš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lavní informace: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A, B a D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ntity Identification (Identifik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Executice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fficial Registration (Oficiální registr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generál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AT </a:t>
            </a:r>
            <a:r>
              <a:rPr b="1" lang="en-US" sz="16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 Social Security Numbers 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Financial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rganisation Chart (organizační tabulka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finanč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stablishments (ustanoven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pace Business Manager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manažer vesmírných obchodů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C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Institution / Dean (ředitel instituce / děkan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Administration (ředitel administr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Responsible for Space Activities (odpovědná osoba za vesmírné aktivit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241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4492" t="12367" r="17399" b="54567"/>
          <a:stretch/>
        </p:blipFill>
        <p:spPr>
          <a:xfrm>
            <a:off x="4343400" y="1066680"/>
            <a:ext cx="449568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7A973-CE1A-4739-9017-844489153B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avidla pro všechny stejná v oblastech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ktivity / Projekty / Produkty a Servi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aff </a:t>
            </a:r>
            <a:r>
              <a:rPr b="1" lang="en-US" sz="18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Facilities (zařízení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ey Financial Figures (klíčová finanční tabulk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Ownership: (vlastnictví, pouze A,B a D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ructural Relations (struktur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Working Relations (pracov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rm Shareholder (akcionáři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ubsidiary (podpor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hievements: (pouze C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Activities (vesmírné aktivi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Projects (vesmírné projek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tivities not related to Space (aktivity bez zaměření na vesmír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D2CD8-2039-4BAC-A3FE-835C87E033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1 Tipy pro registraci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jprve si předčtěte dokumentaci na průmyslovém portál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vstupte do systému a uložte si PIN nebo ID/PW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uveďte typ organizace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likněte na “View All“ a vytiskněte si dotazní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volte si svého koordinátor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oordinujte interní dat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ačněte vyplňovat elektronický dotazník pouze pokud budete mít 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šechna data zkompletizován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dvakrát zkontrolujte místa označená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*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zapomeňte na pravidelné připojení (důležité k ověření platnosti)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buďte opatrní na informace, které obdržíte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980A-8F0F-4E8B-A027-EAEBE4D085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2 Časté chyb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ředstava že aktualizace vaší práce je ztracena při pohledu do View módu: musíte přejít do Edit mód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yplnění pouze 2 ze 3 polí u kontaktů: musí být vyplněno country code (číslo státu), area code (číslo oblasti), number (vlastní číslo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“None“ nebo NA pokud je vyžadován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nebo nevložení funkce v kartě busines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2 dny před vypršením projekt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speciální registrace pro laboratoře, univerzity, úřad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C7ED-4624-45CA-A005-146C1D9765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jednoduchá procedura zavolat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ESA-Mr Verdin tel: +331 5369 7119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uvedení důležitých informací jako jméno, kontakt a emailové adresy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pro sublevels bude vytvořen kód ESABD pro doplnění dalších kontaktních informac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EC55-D198-4CFB-B6B6-2E18379523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1721" t="9376" r="21093" b="13540"/>
          <a:stretch/>
        </p:blipFill>
        <p:spPr>
          <a:xfrm>
            <a:off x="1752480" y="1447920"/>
            <a:ext cx="5715000" cy="48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66D5F-7F97-49F2-94AF-104FFF96D0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1721" t="12502" r="21876" b="21878"/>
          <a:stretch/>
        </p:blipFill>
        <p:spPr>
          <a:xfrm>
            <a:off x="1371600" y="1447920"/>
            <a:ext cx="64771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2FB2-B7EC-429E-B628-BB7C74B671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811" t="9376" r="25782" b="12502"/>
          <a:stretch/>
        </p:blipFill>
        <p:spPr>
          <a:xfrm>
            <a:off x="1752480" y="1447920"/>
            <a:ext cx="5410440" cy="47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4944-F1B6-47F3-86C4-A42D288561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2500" t="10420" r="13282" b="17709"/>
          <a:stretch/>
        </p:blipFill>
        <p:spPr>
          <a:xfrm>
            <a:off x="990720" y="1143000"/>
            <a:ext cx="72388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BDDEE-5637-4909-B0E6-5F9E71ADB5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0938" t="11458" r="12500" b="21878"/>
          <a:stretch/>
        </p:blipFill>
        <p:spPr>
          <a:xfrm>
            <a:off x="685800" y="1219320"/>
            <a:ext cx="74674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6A96-C030-4EB5-B44F-F0042A00F6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600"/>
            </a:b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MPO%20logo%20RGB200dpi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721" t="18753" r="11721" b="20835"/>
          <a:stretch/>
        </p:blipFill>
        <p:spPr>
          <a:xfrm>
            <a:off x="762120" y="1219320"/>
            <a:ext cx="746748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2D685-83A5-4B30-A6D9-A2E069B134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8594" t="11458" r="10938" b="17709"/>
          <a:stretch/>
        </p:blipFill>
        <p:spPr>
          <a:xfrm>
            <a:off x="457200" y="1143000"/>
            <a:ext cx="78487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628D-3F03-432C-91DA-E456F2111A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9376" t="17709" r="9376" b="20835"/>
          <a:stretch/>
        </p:blipFill>
        <p:spPr>
          <a:xfrm>
            <a:off x="609480" y="1447920"/>
            <a:ext cx="792504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B685-0B21-4F4F-A5F9-0256F0B658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7811" t="28124" r="9376" b="25004"/>
          <a:stretch/>
        </p:blipFill>
        <p:spPr>
          <a:xfrm>
            <a:off x="457200" y="1828800"/>
            <a:ext cx="80773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7B30F-CFA4-4DDB-829C-D0E13971AD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3282" t="10420" r="13282" b="16666"/>
          <a:stretch/>
        </p:blipFill>
        <p:spPr>
          <a:xfrm>
            <a:off x="990720" y="1219320"/>
            <a:ext cx="662940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ECE0-6940-4446-92B0-5FE6D4E5E48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ne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0155" t="10420" r="10938" b="18753"/>
          <a:stretch/>
        </p:blipFill>
        <p:spPr>
          <a:xfrm>
            <a:off x="609480" y="1066680"/>
            <a:ext cx="7696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B634-9FAE-4BA9-AAF8-7900E6F326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3808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8594" t="9376" r="10155" b="20835"/>
          <a:stretch/>
        </p:blipFill>
        <p:spPr>
          <a:xfrm>
            <a:off x="533520" y="1143000"/>
            <a:ext cx="792468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5FB4E-23C4-4FB5-8E0B-C2A74758BF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400"/>
            </a:b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   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D238-D23B-44AA-9063-A3544D9A375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Obsah: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oč se registrovat do EMITS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ontakt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lozofie registračního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de mohu začít?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1 Nový žadatel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2 Stávající uživatel 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3 Co je důležité na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4 Obsah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gistra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1 Tipy pro registraci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2 Časté chyb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3 Proces registrace neziskových organizací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jstřík registrací v ČR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říklady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7BD3-390D-45BD-B314-CF34CD8746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Proč se registrovat do EMITS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individuálního (ESABD) kódu nutného k identifikaci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přístupového jména a hesla k přístupu do ITT informačních balíčků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ravidelné informování o vypisovaných tendrech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ESABD důležité pro další kontrak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FDDF5-3797-45CB-83C5-0E3A1E3E05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Kontak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dresa EMITS: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/emits/owa/emits.main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Detailní informace o registraci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esa.int/home-ind/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odpora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CPOs (procure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Deneuwelaere (RES-PGP)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73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Oppenheimer (RES-PG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40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Reynaud (RES-PG)Head/Office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7161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Finance (pay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fried Erker (RES-FEI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31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Industrial Polic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JL Verdin (RES-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1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ic Guilmet (RES-P)Head/division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34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chnická podpora: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idhelp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@esa.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int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90 6941 80444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dlak@mpo.cz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051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rcRect l="33618" t="13642" r="4964" b="73976"/>
          <a:stretch/>
        </p:blipFill>
        <p:spPr>
          <a:xfrm>
            <a:off x="4419720" y="1905120"/>
            <a:ext cx="353376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10953-28A2-49E1-BFCE-B8C5B191DD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. Filozofie registračního systému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ficiální registrace: ESA chce mít informace o firmách zabývajících se kosmickým průmyslem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Hlavní informace: potřebné k ověření firem (nemusí docházet k opakovanému prověřování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Kontakty: Esa potřebuje kontakty na řídící orgány u firem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Aktivity: Esa nabízí příležitost registrovaným vytvořit si svou vlastní technologii a marketing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Role EMITS: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zlepšení kvality poskytovaných informa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update dotazník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chrana informací o zákazníkovi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F25B-D7C9-4798-B82C-1836A061B2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?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Nový žadatel: “Entity Registration“, obdržíte PIN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620120" cy="42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17FC-6AE5-4945-819C-C1A67C5BD5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Stávající uživatel: “LOGIN“ použijte uživatelské jméno a hesl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3389" t="10169" r="2543" b="24295"/>
          <a:stretch/>
        </p:blipFill>
        <p:spPr>
          <a:xfrm>
            <a:off x="304920" y="1676520"/>
            <a:ext cx="8229600" cy="43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FB01-B8CD-49CC-8487-034D46A0F7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3 Co je důležité na systému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umožní přistup k Legal Entitie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 sekci dotazníků je barevné značení a to od </a:t>
            </a:r>
            <a:r>
              <a:rPr b="1" lang="cs-CZ" sz="2400" spc="-1" strike="noStrike">
                <a:solidFill>
                  <a:srgbClr val="00e4a8"/>
                </a:solidFill>
                <a:latin typeface="Times New Roman"/>
              </a:rPr>
              <a:t>zelené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po </a:t>
            </a:r>
            <a:r>
              <a:rPr b="1" lang="cs-CZ" sz="2400" spc="-1" strike="noStrike">
                <a:solidFill>
                  <a:srgbClr val="ffcf01"/>
                </a:solidFill>
                <a:latin typeface="Times New Roman"/>
              </a:rPr>
              <a:t>žlut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až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červen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do 8 sek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mnoho polí je označeno červenou hvězdou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, tato pole je nutné vypln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! Důležité je ukládat veškeré změny před přechodem do hlavní obrazovky, ukládání může trvat delší dobu, vždy si uložená data zkontrolujte, jinak budou ztracena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57480" t="33086" r="13428" b="46186"/>
          <a:stretch/>
        </p:blipFill>
        <p:spPr>
          <a:xfrm>
            <a:off x="762120" y="3657600"/>
            <a:ext cx="2057400" cy="109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7175" t="35217" r="47850" b="45915"/>
          <a:stretch/>
        </p:blipFill>
        <p:spPr>
          <a:xfrm>
            <a:off x="3886200" y="3733920"/>
            <a:ext cx="3352680" cy="104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20E2-6C4D-4275-840F-442B64559B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7:49:12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16T13:25:40Z</dcterms:modified>
  <cp:revision>25</cp:revision>
  <dc:subject/>
  <dc:title>Prezentace aplikace PowerPoint</dc:title>
</cp:coreProperties>
</file>