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DBD43-06C5-47E0-B899-0EC34A0E86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C73EB-6EA7-4900-A530-C0668D4DAA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73BBA-05EF-4554-9960-876C8D6361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DAF3F-E052-4B6B-8C08-D5BDF7E642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32452-77B5-47A3-9B17-B3EC630CB7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B9EA3-7FDB-48C2-A752-F1400B4CB1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8F8BB-3FAD-44DE-8AFE-F5D7C7B84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5D5CB-3AFB-4080-BA1A-6012279339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E4F47-B59A-40A6-AC58-0EFF7A3014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2D954-AE4C-476A-B0B8-0FA033DA0D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2EF60-F982-4DAE-863A-F877E07466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06025-D9A2-41B1-8CBC-42B136D339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2BD0-6137-4988-B8D8-E47652FA5416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MPO%20logo%20RGB200dpi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mailto:sedlak@mpo.cz" TargetMode="External"/><Relationship Id="rId3" Type="http://schemas.openxmlformats.org/officeDocument/2006/relationships/hyperlink" Target="mailto:sedlak@mpo.cz" TargetMode="External"/><Relationship Id="rId4" Type="http://schemas.openxmlformats.org/officeDocument/2006/relationships/hyperlink" Target="mailto:sedlak@mpo.cz" TargetMode="External"/><Relationship Id="rId5" Type="http://schemas.openxmlformats.org/officeDocument/2006/relationships/hyperlink" Target="mailto:sedlak@mpo.cz" TargetMode="External"/><Relationship Id="rId6" Type="http://schemas.openxmlformats.org/officeDocument/2006/relationships/hyperlink" Target="http://www.mpo.cz/" TargetMode="External"/><Relationship Id="rId7" Type="http://schemas.openxmlformats.org/officeDocument/2006/relationships/hyperlink" Target="http://www.mpo.cz/" TargetMode="External"/><Relationship Id="rId8" Type="http://schemas.openxmlformats.org/officeDocument/2006/relationships/hyperlink" Target="http://www.mpo.cz/" TargetMode="External"/><Relationship Id="rId9" Type="http://schemas.openxmlformats.org/officeDocument/2006/relationships/hyperlink" Target="http://www.mpo.cz/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mits.esa.int/emits/owa/emits.main" TargetMode="External"/><Relationship Id="rId2" Type="http://schemas.openxmlformats.org/officeDocument/2006/relationships/hyperlink" Target="http://www.esa.int/home-ind/" TargetMode="External"/><Relationship Id="rId3" Type="http://schemas.openxmlformats.org/officeDocument/2006/relationships/hyperlink" Target="mailto:idhelp@esa.int" TargetMode="External"/><Relationship Id="rId4" Type="http://schemas.openxmlformats.org/officeDocument/2006/relationships/hyperlink" Target="mailto:idhelp@esa.int" TargetMode="External"/><Relationship Id="rId5" Type="http://schemas.openxmlformats.org/officeDocument/2006/relationships/hyperlink" Target="mailto:idhelp@esa.int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mits.esa.int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MPO%20logo%20RGB200dpi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4 Obsah dotazníků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Vyžadované informace jsou 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děleny podle typu firmy: 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Industrial Firm (průmyslová firma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Service Firm (služby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Non-Profit Organisation (nezisková organizace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ther (další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lavní informace: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Kontakty: (jen pro A, B a D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Entity Identification (Identifikace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Chief Executice Officer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fficial Registration (Oficiální registrace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generální ředitel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VAT </a:t>
            </a:r>
            <a:r>
              <a:rPr b="1" lang="en-US" sz="1600" spc="-1" strike="noStrike">
                <a:solidFill>
                  <a:srgbClr val="0e85c0"/>
                </a:solidFill>
                <a:latin typeface="Times New Roman"/>
              </a:rPr>
              <a:t>&amp;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 Social Security Numbers 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Chief Financial Officer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rganisation Chart (organizační tabulka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finanční ředitel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Establishments (ustanovení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Space Business Manager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manažer vesmírných obchodů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Kontakty: (Jen pro C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ead of Institution / Dean (ředitel instituce / děkan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ead of Administration (ředitel administrace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Responsible for Space Activities (odpovědná osoba za vesmírné aktivity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2416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4492" t="12367" r="17399" b="54567"/>
          <a:stretch/>
        </p:blipFill>
        <p:spPr>
          <a:xfrm>
            <a:off x="4343400" y="1066680"/>
            <a:ext cx="449568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70D22-53C6-4F23-8EBB-66653841CC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4 Obsah dotazníků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ravidla pro všechny stejná v oblastech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ktivity / Projekty / Produkty a Service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taff </a:t>
            </a:r>
            <a:r>
              <a:rPr b="1" lang="en-US" sz="1800" spc="-1" strike="noStrike">
                <a:solidFill>
                  <a:srgbClr val="0e85c0"/>
                </a:solidFill>
                <a:latin typeface="Times New Roman"/>
              </a:rPr>
              <a:t>&amp;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Facilities (zařízení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ey Financial Figures (klíčová finanční tabulka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Ownership: (vlastnictví, pouze A,B a D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tructural Relations (strukturní vztah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Working Relations (pracovní vztah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Firm Shareholder (akcionáři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ubsidiary (podpora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chievements: (pouze C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pace Activities (vesmírné aktivit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pace Projects (vesmírné projekt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ctivities not related to Space (aktivity bez zaměření na vesmír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61232-2B1E-485B-AE3F-9786A59DCA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5.1 Tipy pro registraci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nejprve si předčtěte dokumentaci na průmyslovém portál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vstupte do systému a uložte si PIN nebo ID/PW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uveďte typ organizace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klikněte na “View All“ a vytiskněte si dotazní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zvolte si svého koordinátor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koordinujte interní dat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začněte vyplňovat elektronický dotazník pouze pokud budete mít 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šechna data zkompletizován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dvakrát zkontrolujte místa označená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*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nezapomeňte na pravidelné připojení (důležité k ověření platnosti)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buďte opatrní na informace, které obdržíte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D3A2A-06B0-4FDB-B29B-86F7216522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5.2 Časté chyb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představa že aktualizace vaší práce je ztracena při pohledu do View módu: musíte přejít do Edit módu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vyplnění pouze 2 ze 3 polí u kontaktů: musí být vyplněno country code (číslo státu), area code (číslo oblasti), number (vlastní číslo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nezvolení “None“ nebo NA pokud je vyžadováno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nezvolení nebo nevložení funkce v kartě business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registrace 2 dny před vypršením projektu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speciální registrace pro laboratoře, univerzity, úřad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20AF1-A406-4F81-97C1-FB05375AA1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jednoduchá procedura zavolat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ESA-Mr Verdin tel: +331 5369 7119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uvedení důležitých informací jako jméno, kontakt a emailové adresy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pro sublevels bude vytvořen kód ESABD pro doplnění dalších kontaktních informac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80E8D-BCDD-49F7-9F1E-966473F0CF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1721" t="9376" r="21093" b="13540"/>
          <a:stretch/>
        </p:blipFill>
        <p:spPr>
          <a:xfrm>
            <a:off x="1752480" y="1447920"/>
            <a:ext cx="5715000" cy="484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97871-3FBA-4F78-B30A-07006FF4A5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1721" t="12502" r="21876" b="21878"/>
          <a:stretch/>
        </p:blipFill>
        <p:spPr>
          <a:xfrm>
            <a:off x="1371600" y="1447920"/>
            <a:ext cx="647712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33F35-3D1A-4743-8225-1F184CAA51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7811" t="9376" r="25782" b="12502"/>
          <a:stretch/>
        </p:blipFill>
        <p:spPr>
          <a:xfrm>
            <a:off x="1752480" y="1447920"/>
            <a:ext cx="5410440" cy="477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235BF-8D2F-41AF-B476-732CB7FBF0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12500" t="10420" r="13282" b="17709"/>
          <a:stretch/>
        </p:blipFill>
        <p:spPr>
          <a:xfrm>
            <a:off x="990720" y="1143000"/>
            <a:ext cx="723888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37A53-8D6F-4B16-A4D1-DD3BF13EF2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10938" t="11458" r="12500" b="21878"/>
          <a:stretch/>
        </p:blipFill>
        <p:spPr>
          <a:xfrm>
            <a:off x="685800" y="1219320"/>
            <a:ext cx="7467480" cy="48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634D3-5376-467F-9134-B182C3ECB7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 on-line Tenderers</a:t>
            </a:r>
            <a:br>
              <a:rPr sz="3600"/>
            </a:b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Registrační systém EMITS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MPO%20logo%20RGB200dpi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1721" t="18753" r="11721" b="20835"/>
          <a:stretch/>
        </p:blipFill>
        <p:spPr>
          <a:xfrm>
            <a:off x="762120" y="1219320"/>
            <a:ext cx="746748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2766D-54C6-4E02-8ACC-067CEA2A02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8594" t="11458" r="10938" b="17709"/>
          <a:stretch/>
        </p:blipFill>
        <p:spPr>
          <a:xfrm>
            <a:off x="457200" y="1143000"/>
            <a:ext cx="78487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503A7-123A-4574-8C21-9FEEB2F311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9376" t="17709" r="9376" b="20835"/>
          <a:stretch/>
        </p:blipFill>
        <p:spPr>
          <a:xfrm>
            <a:off x="609480" y="1447920"/>
            <a:ext cx="792504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64260-C7E5-485B-A3D5-56A425B76F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7811" t="28124" r="9376" b="25004"/>
          <a:stretch/>
        </p:blipFill>
        <p:spPr>
          <a:xfrm>
            <a:off x="457200" y="1828800"/>
            <a:ext cx="807732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25EC8-DF98-4AF3-AEB1-B55CF7FA5F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 (schválený)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13282" t="10420" r="13282" b="16666"/>
          <a:stretch/>
        </p:blipFill>
        <p:spPr>
          <a:xfrm>
            <a:off x="990720" y="1219320"/>
            <a:ext cx="6629400" cy="493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8C0E7-B7E8-426F-B583-F2351DBFBC4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 (neschválený)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10155" t="10420" r="10938" b="18753"/>
          <a:stretch/>
        </p:blipFill>
        <p:spPr>
          <a:xfrm>
            <a:off x="609480" y="1066680"/>
            <a:ext cx="769644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35B04-94F0-4407-A8EE-EFD69CDE4F7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04920" y="3808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8594" t="9376" r="10155" b="20835"/>
          <a:stretch/>
        </p:blipFill>
        <p:spPr>
          <a:xfrm>
            <a:off x="533520" y="1143000"/>
            <a:ext cx="7924680" cy="51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D68B7-7166-4B65-81CD-0B3F311A2C1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Esa on-line Tenderers</a:t>
            </a:r>
            <a:br>
              <a:rPr sz="3400"/>
            </a:b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Registrační systém EMITS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Bc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          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@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      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7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8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9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D5415-B43F-427A-AAD0-EABAB9711CC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Obsah: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roč se registrovat do EMITS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ontakt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Filozofie registračního systému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de mohu začít?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1 Nový žadatel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2 Stávající uživatel 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3 Co je důležité na systému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4 Obsah dotazníků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Registrace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1 Tipy pro registraci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2 Časté chyb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3 Proces registrace neziskových organizací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Rejstřík registrací v ČR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7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říklady dotazníků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FE954-FCE2-495A-868E-BAB6798950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 Proč se registrovat do EMITS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obdržení individuálního (ESABD) kódu nutného k identifikaci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obdržení přístupového jména a hesla k přístupu do ITT informačních balíčků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ravidelné informování o vypisovaných tendrech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ESABD důležité pro další kontrak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65122-4D88-4405-B109-291341800F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Kontakt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dresa EMITS: 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emits.esa.int/emits/owa/emits.main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Detailní informace o registraci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esa.int/home-ind/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odpora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CPOs (procurements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s Deneuwelaere (RES-PGP) 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173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s Oppenheimer (RES-PGP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4010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 Reynaud (RES-PG)Head/Office 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7161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Finance (payments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rfried Erker (RES-FEI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3110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Industrial Polic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 JL Verdin (RES-P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119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ric Guilmet (RES-P)Head/division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349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chnická podpora: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idhelp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@esa.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int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90 6941 80444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</a:rPr>
              <a:t>sedlak@mpo.cz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051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rcRect l="33618" t="13642" r="4964" b="73976"/>
          <a:stretch/>
        </p:blipFill>
        <p:spPr>
          <a:xfrm>
            <a:off x="4419720" y="1905120"/>
            <a:ext cx="3533760" cy="53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6E65C-1FA2-4117-9EE3-7FD7026421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. Filozofie registračního systému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Oficiální registrace: ESA chce mít informace o firmách zabývajících se kosmickým průmyslem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Hlavní informace: potřebné k ověření firem (nemusí docházet k opakovanému prověřování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Kontakty: Esa potřebuje kontakty na řídící orgány u firem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Aktivity: Esa nabízí příležitost registrovaným vytvořit si svou vlastní technologii a marketing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Role EMITS: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zlepšení kvality poskytovaných informací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update dotazníků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ochrana informací o zákazníkovi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0A94D-307D-4896-9A95-46CC99F32C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?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emits.esa.in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1 Nový žadatel: “Entity Registration“, obdržíte PIN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7620120" cy="42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79D89-6834-49FA-819B-5DDEA48DCC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2 Stávající uživatel: “LOGIN“ použijte uživatelské jméno a heslo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3389" t="10169" r="2543" b="24295"/>
          <a:stretch/>
        </p:blipFill>
        <p:spPr>
          <a:xfrm>
            <a:off x="304920" y="1676520"/>
            <a:ext cx="8229600" cy="43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454EA-AD76-4644-934A-FE1163FAE9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3 Co je důležité na systému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registrace umožní přistup k Legal Entities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v sekci dotazníků je barevné značení a to od </a:t>
            </a:r>
            <a:r>
              <a:rPr b="1" lang="cs-CZ" sz="2400" spc="-1" strike="noStrike">
                <a:solidFill>
                  <a:srgbClr val="00e4a8"/>
                </a:solidFill>
                <a:latin typeface="Times New Roman"/>
              </a:rPr>
              <a:t>zelené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po </a:t>
            </a:r>
            <a:r>
              <a:rPr b="1" lang="cs-CZ" sz="2400" spc="-1" strike="noStrike">
                <a:solidFill>
                  <a:srgbClr val="ffcf01"/>
                </a:solidFill>
                <a:latin typeface="Times New Roman"/>
              </a:rPr>
              <a:t>žluto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až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červeno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do 8 sekcí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mnoho polí je označeno červenou hvězdou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, tato pole je nutné vyplnit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! Důležité je ukládat veškeré změny před přechodem do hlavní obrazovky, ukládání může trvat delší dobu, vždy si uložená data zkontrolujte, jinak budou ztracena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57480" t="33086" r="13428" b="46186"/>
          <a:stretch/>
        </p:blipFill>
        <p:spPr>
          <a:xfrm>
            <a:off x="762120" y="3657600"/>
            <a:ext cx="2057400" cy="109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7672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7175" t="35217" r="47850" b="45915"/>
          <a:stretch/>
        </p:blipFill>
        <p:spPr>
          <a:xfrm>
            <a:off x="3886200" y="3733920"/>
            <a:ext cx="3352680" cy="104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61294-93C4-4958-B548-5D0A211F92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07:49:12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16T13:25:40Z</dcterms:modified>
  <cp:revision>25</cp:revision>
  <dc:subject/>
  <dc:title>Prezentace aplikace PowerPoint</dc:title>
</cp:coreProperties>
</file>