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4825" cy="97123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E5C074-1428-4C80-B0EF-4004659617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853416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4920" y="3814920"/>
            <a:ext cx="853416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0843F1-BC36-4C9F-9CB8-BD66ADE976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920" y="381492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7840" y="381492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5A98F3-873B-4479-9881-94FF873834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90680" y="125856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76080" y="125856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4920" y="381492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90680" y="381492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76080" y="381492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59274D-0875-406D-BCEF-E161A7D940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4920" y="380520"/>
            <a:ext cx="6400800" cy="36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4920" y="381492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F158F4-20F9-41F1-AFFE-01EF009653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7840" y="381492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4920" y="3814920"/>
            <a:ext cx="853416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853416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4920" y="3814920"/>
            <a:ext cx="853416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4920" y="381492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7840" y="381492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90680" y="125856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6080" y="125856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4920" y="381492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90680" y="381492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6080" y="381492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35B9EF-2672-4FD1-B91E-73EC1A67D7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E243EA-9C24-4736-903C-B9F7C3A32D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D14102-5EDF-48AF-9ABC-D2A7D9C2BE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04920" y="380520"/>
            <a:ext cx="6400800" cy="36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787945-E806-4936-8FAB-27550A8D35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4920" y="381492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5F260E-8C54-4052-9278-333586494E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7840" y="381492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05B2CD-0B44-42E4-8626-19203BE134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814920"/>
            <a:ext cx="853416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3F3B5B-887A-4FDD-9B11-5BDCBF59A4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85c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85c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85c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85c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85c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85c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85c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619440" y="6224760"/>
            <a:ext cx="1905120" cy="3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400" spc="-1" strike="noStrike">
                <a:solidFill>
                  <a:srgbClr val="0e85c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E3975-74E8-4148-9CF5-A9A314D2D464}" type="slidenum">
              <a:rPr b="1" lang="cs-CZ" sz="1400" spc="-1" strike="noStrike">
                <a:solidFill>
                  <a:srgbClr val="0e85c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04920" y="6570720"/>
            <a:ext cx="8540640" cy="287280"/>
          </a:xfrm>
          <a:prstGeom prst="rect">
            <a:avLst/>
          </a:prstGeom>
          <a:solidFill>
            <a:srgbClr val="0e85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6400800" y="6248520"/>
            <a:ext cx="2590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e85c0"/>
                </a:solidFill>
                <a:latin typeface="Symbol"/>
                <a:ea typeface="Symbol"/>
              </a:rPr>
              <a:t></a:t>
            </a:r>
            <a:r>
              <a:rPr b="0" lang="cs-CZ" sz="1000" spc="-1" strike="noStrike">
                <a:solidFill>
                  <a:srgbClr val="0e85c0"/>
                </a:solidFill>
                <a:latin typeface="Arial"/>
              </a:rPr>
              <a:t>2009</a:t>
            </a:r>
            <a:r>
              <a:rPr b="0" lang="cs-CZ" sz="1000" spc="-1" strike="noStrike">
                <a:solidFill>
                  <a:srgbClr val="0e85c0"/>
                </a:solidFill>
                <a:latin typeface="Symbol"/>
                <a:ea typeface="Symbol"/>
              </a:rPr>
              <a:t></a:t>
            </a:r>
            <a:r>
              <a:rPr b="0" lang="cs-CZ" sz="1000" spc="-1" strike="noStrike">
                <a:solidFill>
                  <a:srgbClr val="0e85c0"/>
                </a:solidFill>
                <a:latin typeface="Arial"/>
              </a:rPr>
              <a:t>Ministerstvo průmyslu a obchod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197840" y="539640"/>
            <a:ext cx="1224000" cy="514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04920" y="28778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e85c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04920" y="6570720"/>
            <a:ext cx="8540640" cy="287280"/>
          </a:xfrm>
          <a:prstGeom prst="rect">
            <a:avLst/>
          </a:prstGeom>
          <a:solidFill>
            <a:srgbClr val="0e85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85c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lvl="1" marL="457200" algn="ctr">
              <a:spcBef>
                <a:spcPts val="60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e85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0000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e85c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0000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e85c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0000"/>
              </a:buClr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e85c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e85c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e85c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mailto:sedlak@mpo.cz" TargetMode="External"/><Relationship Id="rId2" Type="http://schemas.openxmlformats.org/officeDocument/2006/relationships/hyperlink" Target="http://www.mpo.cz/" TargetMode="External"/><Relationship Id="rId3" Type="http://schemas.openxmlformats.org/officeDocument/2006/relationships/hyperlink" Target="http://www.mpo.cz/" TargetMode="External"/><Relationship Id="rId4" Type="http://schemas.openxmlformats.org/officeDocument/2006/relationships/hyperlink" Target="http://www.mpo.cz/" TargetMode="External"/><Relationship Id="rId5" Type="http://schemas.openxmlformats.org/officeDocument/2006/relationships/hyperlink" Target="http://www.mpo.cz/" TargetMode="External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2362320" y="2371680"/>
            <a:ext cx="431784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5. Zapojení ČR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rok 2009 celková 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částka 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6 870 584 euro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povinné aktivity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- 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Basic Activities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- 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Scientific Programme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volitelné aktivity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- 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GMES Space Component Segment 2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- 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FLPP Period 2 Step 2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F18136-2049-4CFF-940B-B2C225628C0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0000"/>
                </a:solidFill>
                <a:latin typeface="Times New Roman"/>
              </a:rPr>
              <a:t>5.1 Časový horizont aktivit</a:t>
            </a:r>
            <a:endParaRPr b="1" lang="en-US" sz="2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190600" y="161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rogramy" descr="Volitelné programy"/>
          <p:cNvPicPr/>
          <p:nvPr/>
        </p:nvPicPr>
        <p:blipFill>
          <a:blip r:embed="rId1"/>
          <a:stretch/>
        </p:blipFill>
        <p:spPr>
          <a:xfrm>
            <a:off x="914400" y="914400"/>
            <a:ext cx="6934320" cy="5270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9EE4CD-197D-4505-9BE8-88627768344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0000"/>
                </a:solidFill>
                <a:latin typeface="Times New Roman"/>
              </a:rPr>
              <a:t>5.2 Finanční závazky</a:t>
            </a:r>
            <a:endParaRPr b="1" lang="en-US" sz="2000" spc="-1" strike="noStrike">
              <a:solidFill>
                <a:srgbClr val="ff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0" y="762120"/>
          <a:ext cx="9144000" cy="5513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762120"/>
                    <a:ext cx="9144000" cy="551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A86A83-8529-4CB2-9BF9-44DAA03FEA4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Závěr: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Prezentaci 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e85c0"/>
                </a:solidFill>
                <a:latin typeface="Times New Roman"/>
              </a:rPr>
              <a:t>ESA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vytvořil Bc</a:t>
            </a:r>
            <a:r>
              <a:rPr b="1" i="1" lang="cs-CZ" sz="2000" spc="-1" strike="noStrike">
                <a:solidFill>
                  <a:srgbClr val="0e85c0"/>
                </a:solidFill>
                <a:latin typeface="Times New Roman"/>
              </a:rPr>
              <a:t>. Vladimír Sedlák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ff0000"/>
                </a:solidFill>
                <a:uFillTx/>
                <a:latin typeface="Times New Roman"/>
                <a:hlinkClick r:id="rId1"/>
              </a:rPr>
              <a:t>sedlak@mpo.cz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e85c0"/>
                </a:solidFill>
                <a:latin typeface="Times New Roman"/>
              </a:rPr>
              <a:t>Tel: +420 224 852 591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Ministerstvo průmyslu a obchodu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Na Františku 32, Praha 1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ff0000"/>
                </a:solidFill>
                <a:uFillTx/>
                <a:latin typeface="Times New Roman"/>
                <a:hlinkClick r:id="rId2"/>
              </a:rPr>
              <a:t>www.</a:t>
            </a:r>
            <a:r>
              <a:rPr b="1" lang="cs-CZ" sz="2000" spc="-1" strike="noStrike" u="sng">
                <a:solidFill>
                  <a:srgbClr val="ff0000"/>
                </a:solidFill>
                <a:uFillTx/>
                <a:latin typeface="Times New Roman"/>
                <a:hlinkClick r:id="rId3"/>
              </a:rPr>
              <a:t>mpo</a:t>
            </a:r>
            <a:r>
              <a:rPr b="1" lang="cs-CZ" sz="2000" spc="-1" strike="noStrike" u="sng">
                <a:solidFill>
                  <a:srgbClr val="ff0000"/>
                </a:solidFill>
                <a:uFillTx/>
                <a:latin typeface="Times New Roman"/>
                <a:hlinkClick r:id="rId4"/>
              </a:rPr>
              <a:t>.</a:t>
            </a:r>
            <a:r>
              <a:rPr b="1" lang="cs-CZ" sz="2000" spc="-1" strike="noStrike" u="sng">
                <a:solidFill>
                  <a:srgbClr val="ff0000"/>
                </a:solidFill>
                <a:uFillTx/>
                <a:latin typeface="Times New Roman"/>
                <a:hlinkClick r:id="rId5"/>
              </a:rPr>
              <a:t>cz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8E051C-3897-4675-A3D1-87CA1CF0066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26665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e85c0"/>
                </a:solidFill>
                <a:latin typeface="Times New Roman"/>
              </a:rPr>
              <a:t>ESA</a:t>
            </a:r>
            <a:endParaRPr b="1" lang="en-US" sz="36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828800" y="4038480"/>
            <a:ext cx="54100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Arial"/>
              </a:rPr>
              <a:t>Bc. Vladimír Sedlá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508480" y="5775840"/>
            <a:ext cx="41346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e85c0"/>
                </a:solidFill>
                <a:latin typeface="Arial"/>
              </a:rPr>
              <a:t>©</a:t>
            </a:r>
            <a:r>
              <a:rPr b="1" lang="cs-CZ" sz="1600" spc="-1" strike="noStrike">
                <a:solidFill>
                  <a:srgbClr val="0e85c0"/>
                </a:solidFill>
                <a:latin typeface="Arial"/>
              </a:rPr>
              <a:t> 2009 </a:t>
            </a:r>
            <a:r>
              <a:rPr b="1" lang="cs-CZ" sz="1600" spc="-1" strike="noStrike">
                <a:solidFill>
                  <a:srgbClr val="0e85c0"/>
                </a:solidFill>
                <a:latin typeface="Arial"/>
                <a:ea typeface="SimSun"/>
              </a:rPr>
              <a:t>Minist</a:t>
            </a:r>
            <a:r>
              <a:rPr b="1" lang="cs-CZ" sz="1600" spc="-1" strike="noStrike">
                <a:solidFill>
                  <a:srgbClr val="0e85c0"/>
                </a:solidFill>
                <a:latin typeface="Arial"/>
              </a:rPr>
              <a:t>erstvo průmyslu a obchod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7197840" y="539640"/>
            <a:ext cx="1224000" cy="5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Obsah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4920" y="1258920"/>
            <a:ext cx="8534160" cy="49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1. </a:t>
            </a:r>
            <a:r>
              <a:rPr b="1" lang="cs-CZ" sz="32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Hlavní poslání organizace</a:t>
            </a:r>
            <a:endParaRPr b="1" lang="en-US" sz="3200" spc="-1" strike="noStrike">
              <a:solidFill>
                <a:srgbClr val="0e85c0"/>
              </a:solidFill>
              <a:latin typeface="Arial"/>
            </a:endParaRPr>
          </a:p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2. Řízení</a:t>
            </a:r>
            <a:endParaRPr b="1" lang="en-US" sz="3200" spc="-1" strike="noStrike">
              <a:solidFill>
                <a:srgbClr val="0e85c0"/>
              </a:solidFill>
              <a:latin typeface="Arial"/>
            </a:endParaRPr>
          </a:p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3. Přistoupení ČR k ESA - PECS </a:t>
            </a:r>
            <a:endParaRPr b="1" lang="en-US" sz="3200" spc="-1" strike="noStrike">
              <a:solidFill>
                <a:srgbClr val="0e85c0"/>
              </a:solidFill>
              <a:latin typeface="Arial"/>
            </a:endParaRPr>
          </a:p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4. Členství ČR v ESA</a:t>
            </a:r>
            <a:endParaRPr b="1" lang="en-US" sz="3200" spc="-1" strike="noStrike">
              <a:solidFill>
                <a:srgbClr val="0e85c0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4.1 </a:t>
            </a:r>
            <a:r>
              <a:rPr b="1" lang="cs-CZ" sz="21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Finan</a:t>
            </a:r>
            <a:r>
              <a:rPr b="1" lang="cs-CZ" sz="2100" spc="-1" strike="noStrike">
                <a:solidFill>
                  <a:srgbClr val="0e85c0"/>
                </a:solidFill>
                <a:latin typeface="Times New Roman"/>
              </a:rPr>
              <a:t>č</a:t>
            </a:r>
            <a:r>
              <a:rPr b="1" lang="cs-CZ" sz="21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ní poplatky umo</a:t>
            </a:r>
            <a:r>
              <a:rPr b="1" lang="cs-CZ" sz="2100" spc="-1" strike="noStrike">
                <a:solidFill>
                  <a:srgbClr val="0e85c0"/>
                </a:solidFill>
                <a:latin typeface="Times New Roman"/>
              </a:rPr>
              <a:t>žň</a:t>
            </a:r>
            <a:r>
              <a:rPr b="1" lang="cs-CZ" sz="21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ující </a:t>
            </a:r>
            <a:r>
              <a:rPr b="1" lang="cs-CZ" sz="2100" spc="-1" strike="noStrike">
                <a:solidFill>
                  <a:srgbClr val="0e85c0"/>
                </a:solidFill>
                <a:latin typeface="Times New Roman"/>
              </a:rPr>
              <a:t>č</a:t>
            </a:r>
            <a:r>
              <a:rPr b="1" lang="cs-CZ" sz="21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lenství </a:t>
            </a:r>
            <a:r>
              <a:rPr b="1" lang="cs-CZ" sz="2100" spc="-1" strike="noStrike">
                <a:solidFill>
                  <a:srgbClr val="0e85c0"/>
                </a:solidFill>
                <a:latin typeface="Times New Roman"/>
              </a:rPr>
              <a:t>Č</a:t>
            </a:r>
            <a:r>
              <a:rPr b="1" lang="cs-CZ" sz="21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R v ESA</a:t>
            </a: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 </a:t>
            </a:r>
            <a:endParaRPr b="1" lang="en-US" sz="3200" spc="-1" strike="noStrike">
              <a:solidFill>
                <a:srgbClr val="0e85c0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4.2 Task Force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4.3 Výzva pro podávání návrhů projektových záměrů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5. Zapojení ČR</a:t>
            </a:r>
            <a:endParaRPr b="1" lang="en-US" sz="3200" spc="-1" strike="noStrike">
              <a:solidFill>
                <a:srgbClr val="0e85c0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5.1 Časový horizont aktivit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5.2 Finanční závazky</a:t>
            </a: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0e85c0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7D9490-79A3-499B-90E8-4714B076C4B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1.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lavní poslání organizace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udržovat a rozvíjet evropské dopravní prostředky pro přístup do kosmu, zajišťovat širokou technologickou základnu a kapacitu evropského průmyslu, která dokáže navrhovat, vyrábět a provozovat kosmické systémy a doprovodnou pozemní infrastrukturu</a:t>
            </a:r>
            <a:r>
              <a:rPr b="0" lang="cs-CZ" sz="2000" spc="-1" strike="noStrike">
                <a:solidFill>
                  <a:srgbClr val="0e85c0"/>
                </a:solidFill>
                <a:latin typeface="Times New Roman"/>
              </a:rPr>
              <a:t>,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 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koordinovat evropskou strategii a politiku pro kosmonautiku,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 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rozšiřovat vědecké znalosti o naší planetě, sluneční soustavě a vesmíru stejně jako            o materiálech a živých organismech s využitím Mezinárodní kosmické stanice, družic  a meziplanetárních sond, 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vyu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ž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ívat získané technické dovednosti a poznatky k uspokojování stále náro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č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n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ě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jších nároků spole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č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nosti a trhu.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 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6F836C-6DE3-405B-9BE9-C8A4A19DA89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2. Řízení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Ministerská rada ESA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- jednou za tři roky (2008 Haag)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Rady ESA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- 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IPC 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– Výbor pro pr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ů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myslovou politiku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- 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SPC 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– Výbor pro v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ě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decký program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- 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AFC 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– Výbor pro administraci a finance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- 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IRC 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– Výbor pro mezinárodní vztahy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- 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SEC 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– Výbor pro bezpe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č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nost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646311-C03F-408C-92E7-393273B570A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. P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ř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stoupení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Č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 k ESA - PECS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poskytnout za určitých podmínek i nečlenskému státu možnost připojit se ke stávajícím programům ESA 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9,7 milionu Euro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k řešení 28 projektů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7F0DF9-CE20-431C-9A4C-4424CA75EA5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858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4. Členství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Č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 v ESA</a:t>
            </a:r>
            <a:br>
              <a:rPr sz="3000"/>
            </a:br>
            <a:r>
              <a:rPr b="1" lang="cs-CZ" sz="2000" spc="-1" strike="noStrike">
                <a:solidFill>
                  <a:srgbClr val="ff0000"/>
                </a:solidFill>
                <a:latin typeface="Times New Roman"/>
              </a:rPr>
              <a:t>4.1 </a:t>
            </a:r>
            <a:r>
              <a:rPr b="1" lang="cs-CZ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inan</a:t>
            </a:r>
            <a:r>
              <a:rPr b="1" lang="cs-CZ" sz="2000" spc="-1" strike="noStrike">
                <a:solidFill>
                  <a:srgbClr val="ff0000"/>
                </a:solidFill>
                <a:latin typeface="Times New Roman"/>
              </a:rPr>
              <a:t>č</a:t>
            </a:r>
            <a:r>
              <a:rPr b="1" lang="cs-CZ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í poplatky umo</a:t>
            </a:r>
            <a:r>
              <a:rPr b="1" lang="cs-CZ" sz="2000" spc="-1" strike="noStrike">
                <a:solidFill>
                  <a:srgbClr val="ff0000"/>
                </a:solidFill>
                <a:latin typeface="Times New Roman"/>
              </a:rPr>
              <a:t>žň</a:t>
            </a:r>
            <a:r>
              <a:rPr b="1" lang="cs-CZ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ující </a:t>
            </a:r>
            <a:r>
              <a:rPr b="1" lang="cs-CZ" sz="2000" spc="-1" strike="noStrike">
                <a:solidFill>
                  <a:srgbClr val="ff0000"/>
                </a:solidFill>
                <a:latin typeface="Times New Roman"/>
              </a:rPr>
              <a:t>č</a:t>
            </a:r>
            <a:r>
              <a:rPr b="1" lang="cs-CZ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enství </a:t>
            </a:r>
            <a:r>
              <a:rPr b="1" lang="cs-CZ" sz="2000" spc="-1" strike="noStrike">
                <a:solidFill>
                  <a:srgbClr val="ff0000"/>
                </a:solidFill>
                <a:latin typeface="Times New Roman"/>
              </a:rPr>
              <a:t>Č</a:t>
            </a:r>
            <a:r>
              <a:rPr b="1" lang="cs-CZ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 v ESA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5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vstupní poplatek ve výši 2,9 mil € 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povinné programy 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- 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p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ř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ispívají všechny 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č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lenské zem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ě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- 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v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ě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decký program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- 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základní aktivity ESA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volitelné programy 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- dle 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zájmu ka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ž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dé zem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ě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 o daný obor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- pozorování země, telekomunikace … 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návratnost: 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84% prost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ř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edk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ů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 vlo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ž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ených do povinných program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ů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 a a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ž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 94% z jednotlivých volitelných program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ů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 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FE35C9-4211-464B-A0D8-78E6175BDAC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0000"/>
                </a:solidFill>
                <a:latin typeface="Times New Roman"/>
              </a:rPr>
              <a:t>4.2 Task Force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Task Force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- řídí 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vyu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ž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ívání 45% 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č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eského finan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č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ního 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p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ř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ísp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ě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vku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- konkurenceschopnost průmyslu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- 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spolupodíl na p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ř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íprav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ě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 výzev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- 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seminá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ř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e a workshopy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- 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vlastní provozní rozpo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čet   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CE0236-ACBF-45A4-A02D-B8B3655423F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7053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0000"/>
                </a:solidFill>
                <a:latin typeface="Times New Roman"/>
              </a:rPr>
              <a:t>4.3 </a:t>
            </a:r>
            <a:r>
              <a:rPr b="1" lang="cs-CZ" sz="2000" spc="-1" strike="noStrike">
                <a:solidFill>
                  <a:srgbClr val="ff0000"/>
                </a:solidFill>
                <a:latin typeface="Times New Roman"/>
                <a:ea typeface="Arial"/>
              </a:rPr>
              <a:t>Výzva pro podávání návrhů projektových záměrů</a:t>
            </a:r>
            <a:r>
              <a:rPr b="0" lang="cs-CZ" sz="30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br>
              <a:rPr sz="3000"/>
            </a:b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46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16. b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ř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ezna 2009 byla v systému EMITS zve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ř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ejn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ě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na Výzva pro podávání návrh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ů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 projektových zám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ě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r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ů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výzva je otevřena pouze do 15. května 2009, veškeré úspěšně schválené projekty jsou kompletně hrazeny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výzva je vyhrazena pro: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- 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letový hardware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(1 000 000 Euro)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- 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výzkumné a vývojové aktivity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(200 000 Euro)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- 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p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ř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ípravné aktivity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 (100 000 Euro)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E6A0DB-15FF-4DC1-87F2-ED3616F615A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08:56:03Z</dcterms:created>
  <dc:creator>Vladimír Sedlák</dc:creator>
  <dc:description/>
  <dc:language>en-US</dc:language>
  <cp:lastModifiedBy>Vladimír Sedlák </cp:lastModifiedBy>
  <cp:lastPrinted>2009-04-22T19:24:48Z</cp:lastPrinted>
  <dcterms:modified xsi:type="dcterms:W3CDTF">2009-04-21T10:58:16Z</dcterms:modified>
  <cp:revision>30</cp:revision>
  <dc:subject/>
  <dc:title>Prezentace aplikace PowerPoint</dc:title>
</cp:coreProperties>
</file>