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E40A-829D-4AA2-AB31-2AF705091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AD0E-8599-4FDD-B8CF-744ED260ED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CB90-3BB7-42EF-AC87-FC6F1AD5FD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16DD9-6019-4F02-AA18-D34354EF3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1119-42C1-47DF-8499-5E5536755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EE1B-8E9F-40F0-BA5A-EB43D15BC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70E2E-0A9A-4339-8B27-C0362F57B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F65EC-9B49-4646-8561-1FFBFBBDE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75CB-8AE5-46DB-8B3C-A4E94BA3F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0A56-FC75-4CF0-8500-9181A01B6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2701A-D30F-4ED9-806C-3EEB3BFFD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5674E-6739-4B69-98E3-D1DD87BCA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958D-5B1D-4A92-9588-044D88CEBB74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1. Výzv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1 Pro koho je určena.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2 Rozpočet a urč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2. Podmínky a důvody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ABE5-1DBC-4671-9764-CF5C076092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1. Výzva</a:t>
            </a: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Dne 16. března 2009 byla v systému EMITS zveřejně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Výzva pro podávání návrhů projektových záměr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ýzva je urče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pouze pro české firmy, univerzity a výzkumná pracovišt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. Zájemci mohou podat zjednodušené „vlastní i již vyvíjené“ projektové návrhy ze všech technologických oblastí, ve kterých se Evropská kosmická agentura (ESA) angažuje (viz slide 5)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 systému EMITS jsou vypsány další konkrétní tendry určené pro ČR s veškerou specifikací a s datem uzávěrky. Pro podrobnější informace je nutná registrace do systému</a:t>
            </a: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D4DE-8840-4D2D-9260-30448E7167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1 Pro koho jsou urče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ýzva pro podání projektových záměrů s termínem 15. květen je určena pro: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a)    letový hardware, s upřednostněním aktivit spojených se základním vybavením družic, senzorů či obecných technologií s potenciálem opětovného využití (rozpočet návrhu nesmí přesáhnout 1 0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b)    výzkumné a vývojové aktivity (včetně studií proveditelnosti) vedoucí k produktům (hardware nebo software), službám, ověření technologií, anebo obecným technologiím s potenciálem opětovného využití (rozpočet návrhu nesmí přesáhnout 2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c)    přípravné aktivity (např. studie, formulace uživatelských požadavků, průzkumy trhu) podporující českou konkurenceschopnost v programech ESA (povinných a volitelných), kterých se Česká republika účastní (rozpočet návrhu nesmí přesáhnout 100 000 Euro).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577F-4FB0-435D-9546-DFCAF65285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2 Rozpočet a urč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Celkový rozpočet vyčleněný pro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uto Výzv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je               2 500 000 Euro. V rámci této Výzvy mohou podávat návrhy pouze společnosti nebo organizace sídlící v České republice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onsorcia zahrnující společnosti nebo organizace z jiných členských států mohou být schválena pouze v případě náležitého odůvodnění jejich zapojení. Úkoly přidělené subjektům mimo Českou republiku nesmí v žádném případě tvořit hlavní aktivity navrhovaného záměru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zdělávací a informační aktivity nejsou součástí této Výzvy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E9348-DDFA-48D3-96B6-417FBB71F9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Podmínky a důvody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ýzva je otevřena pouze do 15. května 2009 </a:t>
            </a:r>
            <a:r>
              <a:rPr b="1" lang="cs-CZ" sz="2400" spc="-1" strike="noStrike" u="sng">
                <a:solidFill>
                  <a:srgbClr val="11a0e7"/>
                </a:solidFill>
                <a:uFillTx/>
                <a:latin typeface="Times New Roman"/>
              </a:rPr>
              <a:t>jen </a:t>
            </a: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pro podávání návrhů projektových záměrů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Do ostatních tendrů vypsaných v systému EMITS je možno se přihlašovat i nadále do data uzavření vypsaného tendru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škeré schválené projektové záměry budou kompletně financovány agenturou ESA. Registrace v systému EMITS je bezplatná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ostor mají veškeré organizace po zaregistrování do systému EMITS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58C59-1C01-490D-B0FF-1426864C50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04BF-4FB8-43DC-84D1-249C25AC37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3T09:01:21Z</dcterms:modified>
  <cp:revision>38</cp:revision>
  <dc:subject/>
  <dc:title>Prezentace aplikace PowerPoint</dc:title>
</cp:coreProperties>
</file>