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0E86B-AF5D-41C2-B058-3C867BF1C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2A22-FA4F-47F3-B7BC-99D4CE827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6C6AB-6B93-4638-824C-37D5365700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AD64-B3C0-480E-AF1D-CB5B032CE8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7E77-F1D5-4FE0-90BD-179824E776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D09CF-2CA6-468F-BB8F-34B054B22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3711A-426C-466C-911B-85672F4FC3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B623D-1FC8-4B15-B104-4F95C7B76C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03781-BBB3-491D-ABED-01FC5F4E1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05EA3-CF74-46E2-A00B-2A5ED31FB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AC4F0-16EC-45E7-BE92-4F85DA6EE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B2E62-C250-42F6-9FC7-028232579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F857-48D0-4F58-BB5E-93CBF3CE1803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Zapojení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ok 2009 celková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ástka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6 870 584 eur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vin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Basic Activities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cientific Programm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olitel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GMES Space Component Segment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LPP Period 2 Step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5F76B-8A7E-43B8-B4F0-0FFBE31DAA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1 Časový horizont aktivit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060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rogramy" descr="Volitelné programy"/>
          <p:cNvPicPr/>
          <p:nvPr/>
        </p:nvPicPr>
        <p:blipFill>
          <a:blip r:embed="rId1"/>
          <a:stretch/>
        </p:blipFill>
        <p:spPr>
          <a:xfrm>
            <a:off x="914400" y="914400"/>
            <a:ext cx="6934320" cy="527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5941-CD1A-4C00-9A2A-FFF1BED059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2 Finanční závazky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762120"/>
          <a:ext cx="9144000" cy="551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9D8D7-CEF7-4BE6-815E-947FCF8609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3950E-79B7-4DA4-ABEC-34F4D91586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 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2. Říz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3. Přistoupení ČR k ESA - PECS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4. Členství ČR v ESA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inan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žň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 v ESA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Task Force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3 Výzva pro podávání návrhů projektových záměr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 Zapojení ČR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1 Časový horizont aktiv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2 Finanční závazky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F874-F5F4-45B6-9D83-79B73E8BF1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udržovat a rozvíjet evropské dopravní prostředky pro přístup do kosmu, zajišťovat širokou technologickou základnu a kapacitu evropského průmyslu, která dokáže navrhovat, vyrábět a provozovat kosmické systémy a doprovodnou pozemní infrastrukturu</a:t>
            </a:r>
            <a:r>
              <a:rPr b="0" lang="cs-CZ" sz="2000" spc="-1" strike="noStrike">
                <a:solidFill>
                  <a:srgbClr val="0e85c0"/>
                </a:solidFill>
                <a:latin typeface="Times New Roman"/>
              </a:rPr>
              <a:t>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koordinovat evropskou strategii a politiku pro kosmonautiku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rozšiřovat vědecké znalosti o naší planetě, sluneční soustavě a vesmíru stejně jako            o materiálech a živých organismech s využitím Mezinárodní kosmické stanice, družic  a meziplanetárních sond,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at získané technické dovednosti a poznatky k uspokojování stále náro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jších nároků spole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i a trhu.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77173-BEF9-4B93-A5FF-1730F55BA6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Říz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inisterská rada ESA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jednou za tři roky (2008 Haag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Rady ESA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pr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yslovou politik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AF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administraci a financ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R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mezinárodní vztahy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bezp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7A030-31BC-4380-A354-2D1D7FC1D5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ř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toupení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k ESA - PEC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skytnout za určitých podmínek i nečlenskému státu možnost připojit se ke stávajícím programům ESA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9,7 milionu Euro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 řešení 28 projektů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6B81-E4B5-4AED-AA87-E6ACA5FC94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Členství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br>
              <a:rPr sz="3000"/>
            </a:b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1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an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žň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stupní poplatek ve výši 2,9 mil €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ovin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spívají všechny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k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kladní aktivity ES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olitel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dle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jmu k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o daný obor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ozorování země, telekomunikace …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návratnost: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84% pr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dk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lo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ných do povin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a 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94% z jednotlivých volitel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9138F-3A10-4033-BC38-5059E4261E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2 Task Forc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Task Force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řídí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ání 45%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ského fina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ho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s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k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konkurenceschopnost průmyslu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olupodíl na 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ýzev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miná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 a workshop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lastní provozní rozp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et  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99AE-F146-4422-B5AF-C20A5CB918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705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3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Výzva pro podávání návrhů projektových záměrů</a:t>
            </a:r>
            <a:r>
              <a:rPr b="0" lang="cs-CZ" sz="3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16. b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zna 2009 byla v systému EMITS zv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j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a Výzva pro podávání návrh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projektových zám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výzva je otevřena pouze do 15. května 2009, veškeré úspěšně schválené projekty jsou kompletně hrazen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va je vyhrazena pro: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tový hardwar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(1 000 000 Euro)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kumné a vývojov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(2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n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(1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6CF27-0AF5-4605-BB83-039564B6B1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1T10:58:16Z</dcterms:modified>
  <cp:revision>30</cp:revision>
  <dc:subject/>
  <dc:title>Prezentace aplikace PowerPoint</dc:title>
</cp:coreProperties>
</file>