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10.wmf" ContentType="image/x-wmf"/>
  <Override PartName="/ppt/media/image9.jpeg" ContentType="image/jpeg"/>
  <Override PartName="/ppt/media/image11.wmf" ContentType="image/x-wmf"/>
  <Override PartName="/ppt/media/image18.png" ContentType="image/png"/>
  <Override PartName="/ppt/media/image17.png" ContentType="image/png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6.jpeg" ContentType="image/jpeg"/>
  <Override PartName="/ppt/media/image16.wmf" ContentType="image/x-wmf"/>
  <Override PartName="/ppt/media/image8.png" ContentType="image/png"/>
  <Override PartName="/ppt/media/image12.wmf" ContentType="image/x-wmf"/>
  <Override PartName="/ppt/media/image15.wmf" ContentType="image/x-wmf"/>
  <Override PartName="/ppt/media/image7.png" ContentType="image/png"/>
  <Override PartName="/ppt/embeddings/oleObject1.xlsx" ContentType="application/vnd.openxmlformats-officedocument.spreadsheetml.sheet"/>
  <Override PartName="/ppt/embeddings/oleObject1.pptx" ContentType="application/vnd.openxmlformats-officedocument.presentationml.presentation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6C439-BBF1-41EB-91BF-371259F96A6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 me illustrate what is the concern and why wind is of interest from a supply point of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F9B7-9AC2-4A07-873A-B56F6B614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50533-A640-4E87-81D5-05865ABD4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5379-2BB7-4184-B625-49C317DB7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D1B2-77CE-4F8B-A43D-06CAAE793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94AF-9BA0-4AA6-91BC-4808EE678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8D3B-9931-4AE9-97E7-F480E2604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4FC7-FB33-4657-9EA4-909CED6E8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AD57-74BF-4A6B-A997-EE4F83175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B93C-7433-4A44-9D32-DBD984CC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445DE-47C0-4E13-9569-C1492277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E356-7D67-4857-A1B9-C76093CD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FDF17-6F03-477D-BC51-55E47532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73B6-BC85-40D2-94AA-8BE9FF467B5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esv.or.at/" TargetMode="External"/><Relationship Id="rId3" Type="http://schemas.openxmlformats.org/officeDocument/2006/relationships/hyperlink" Target="http://www.esv.or.at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rec-renewables.org/" TargetMode="External"/><Relationship Id="rId3" Type="http://schemas.openxmlformats.org/officeDocument/2006/relationships/hyperlink" Target="http://www.erec-renewables.org/" TargetMode="External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21 renewable energies </a:t>
            </a:r>
            <a:br>
              <a:rPr sz="5400"/>
            </a:br>
            <a:r>
              <a:rPr b="1" lang="de-DE" sz="5400" spc="-1" strike="noStrike">
                <a:solidFill>
                  <a:srgbClr val="ccffff"/>
                </a:solidFill>
                <a:latin typeface="Arial"/>
              </a:rPr>
              <a:t>for the XXI century</a:t>
            </a: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laude Tur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MEP, Vice President of EUF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547560"/>
            <a:ext cx="856908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41120" y="1295280"/>
          <a:ext cx="452916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1120" y="1295280"/>
                    <a:ext cx="452916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1579680" y="4154400"/>
            <a:ext cx="4938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rcRect l="0" t="1660" r="0" b="0"/>
          <a:stretch/>
        </p:blipFill>
        <p:spPr>
          <a:xfrm>
            <a:off x="4703760" y="1295280"/>
            <a:ext cx="4440240" cy="537372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EU has strong wind energy potential – onshore and offshore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5240" y="6518160"/>
            <a:ext cx="40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Shell Renewables, EP 09/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Global wave power distribution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6262560"/>
            <a:ext cx="837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"/>
              </a:rPr>
              <a:t>Annual average wave energy flux per unit width of wave crest (kilowatts per 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380880" y="1209600"/>
            <a:ext cx="8382240" cy="50389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4427640" y="-169920"/>
            <a:ext cx="4968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: AquaEnergy Development UK, EP 09/0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The share of renewables can grow from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8% in 2005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►</a:t>
            </a:r>
            <a:r>
              <a:rPr b="1" lang="en-GB" sz="3200" spc="-1" strike="noStrike">
                <a:solidFill>
                  <a:srgbClr val="ffffff"/>
                </a:solidFill>
                <a:latin typeface="Book Antiqua"/>
                <a:ea typeface="Arial"/>
              </a:rPr>
              <a:t>►►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20-25% until 202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illustrated in different studies ( European Commission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Forres 2020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; Greenpeace </a:t>
            </a:r>
            <a:r>
              <a:rPr b="1" i="1" lang="en-GB" sz="2800" spc="-1" strike="noStrike">
                <a:solidFill>
                  <a:srgbClr val="ffffff"/>
                </a:solidFill>
                <a:latin typeface="Arial"/>
              </a:rPr>
              <a:t>Energy revolution</a:t>
            </a: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,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As called for by a  large majority vote in the EP on 28th September 200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Multiple benefits of renew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Reduce environmental stress (CO2, air pollution, no nuclear risk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Enhance security of supply (ease import dependency, reduce volatility of energy prices like oi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Create jobs (250.000 today, big potential for rural are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Increase competitiveness of EU economy (commercial balance, EU world leader in renewabl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728720"/>
            <a:ext cx="8507520" cy="544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ystemic approach to energy poli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mote Energy Intelligent end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and policies are as important as supply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ropriate energy densities for heating &amp;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w density energies like exceeding energy from electricity production or low temperature uses from low temperature to be preferred before electricity and g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 local renewables as poss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l energy production reduces losses in transmission and transportation and strengthens local econom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Heating and Cooling: a major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r renewable energ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lligent buildings as a precondition – 40 % of EU energy use is heating and cool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iomass/geothermal based cogeneration as a tool for large scale penetration of renewab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od pellets: oil from EU for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lar thermal: the next success st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Solar cooling: a must for Southern Europ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8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telligent buildings as a precondition:</a:t>
            </a:r>
            <a:br>
              <a:rPr sz="3600"/>
            </a:b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– 40 % of EU energy use in heating and cooling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41520" y="1600200"/>
            <a:ext cx="6060960" cy="4525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618560" y="6374520"/>
            <a:ext cx="59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O.Ö. Energiesparverband 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www.esv.or.a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olar-supported, integrated eco-efficient renovat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f large residential buildings and heat-supply-systems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00200"/>
          <a:ext cx="8362800" cy="4276800"/>
        </p:xfrm>
        <a:graphic>
          <a:graphicData uri="http://schemas.openxmlformats.org/drawingml/2006/table">
            <a:tbl>
              <a:tblPr/>
              <a:tblGrid>
                <a:gridCol w="2890800"/>
                <a:gridCol w="5472000"/>
              </a:tblGrid>
              <a:tr h="427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1" name="" descr=""/>
          <p:cNvPicPr/>
          <p:nvPr/>
        </p:nvPicPr>
        <p:blipFill>
          <a:blip r:embed="rId1"/>
          <a:srcRect l="15186" t="8436" r="17717" b="5062"/>
          <a:stretch/>
        </p:blipFill>
        <p:spPr>
          <a:xfrm>
            <a:off x="539640" y="2100240"/>
            <a:ext cx="2664000" cy="2576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2" name=""/>
          <p:cNvGraphicFramePr/>
          <p:nvPr/>
        </p:nvGraphicFramePr>
        <p:xfrm>
          <a:off x="3203640" y="2039760"/>
          <a:ext cx="5483160" cy="28846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2039760"/>
                    <a:ext cx="5483160" cy="28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3639960" y="6302520"/>
            <a:ext cx="512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roject Solanova, presentation EP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Heating and cooling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000" y="1600200"/>
            <a:ext cx="821844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roaden existing EU build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roduce gradually raising building codes for new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w heating and cooling directive with a 2020 targ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&amp;D technology platform on integrating decentralised renewables and insulation of buildi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20 targets for CHP (under existing directiv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subsidies for coal and gas heating and phase out electricity based heating and coo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U energy Marshall plan for building sector (EIB, structural fund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Green electricity: 30% and more are possible until 202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nergy intelligent appliances and electronics as a precondition for high shares of renew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nd: a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cean energy: the next European success 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lar Thermal electricity: a brake-through soo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Decentralised Green electricity: more than P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79640" y="2491920"/>
            <a:ext cx="568800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reen Hydroge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5084640"/>
            <a:ext cx="9144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619280" y="5661000"/>
            <a:ext cx="5977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…</a:t>
            </a: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or the XXIst Century!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Electricity: fair market conditions</a:t>
            </a:r>
            <a:br>
              <a:rPr sz="4000"/>
            </a:b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 for renewabl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Choose stable support sche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fair access to grid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arantie that integration of renewables into the grid is a priority for grid operators and that costs are socialised to all consumers (see historical precede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istorsions in favour of coal (C02 allocations) and nuclear (EURATOM, decommissioning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Stop market dominance of big and dirty opera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8360" y="1700280"/>
            <a:ext cx="8424720" cy="388944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Ownership-Market Concentration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017800" y="58881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Renewable electricit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new political initiativ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mission has to enforce the existing directiv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 new targets for Green electricity in 20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e labelling of electricity with public procur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t new state aid rules r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-Regulate electricity market by a third set of directives (ownership unbundling, segregated decommissioning funds, diminution of market powe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ure a comprehensive gas policy (reducing gas from building sector, combine gas and wind over next 20 year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North Sea offshore project between the relevant cou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-27000"/>
            <a:ext cx="9144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0680" bIns="40680" anchor="ctr">
            <a:noAutofit/>
          </a:bodyPr>
          <a:p>
            <a:pPr algn="ctr">
              <a:tabLst>
                <a:tab algn="l" pos="0"/>
                <a:tab algn="l" pos="247680"/>
                <a:tab algn="l" pos="495360"/>
                <a:tab algn="l" pos="2808360"/>
                <a:tab algn="l" pos="3056040"/>
                <a:tab algn="l" pos="330372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4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Administrative and grid barrier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46800" y="907920"/>
            <a:ext cx="882720" cy="10177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2979720" y="907920"/>
            <a:ext cx="1066680" cy="9921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5079960" y="907920"/>
            <a:ext cx="905040" cy="1017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3" name=""/>
          <p:cNvGraphicFramePr/>
          <p:nvPr/>
        </p:nvGraphicFramePr>
        <p:xfrm>
          <a:off x="474840" y="2060640"/>
          <a:ext cx="8127720" cy="419580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  <a:gridCol w="2031840"/>
              </a:tblGrid>
              <a:tr h="2315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dministrativ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IE, ES, SE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, NL, </a:t>
                      </a:r>
                      <a:r>
                        <a:rPr b="0" lang="en-GB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CZ, PL, SK, HU, LV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id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K, FI, DE, ES, SE, NL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            LT, CZ, SK, L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T, BE, UK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H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R, GR, IE, PT</a:t>
                      </a:r>
                      <a:r>
                        <a:rPr b="0" lang="es-ES_trad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, PL, EE, SI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4" name=""/>
          <p:cNvSpPr/>
          <p:nvPr/>
        </p:nvSpPr>
        <p:spPr>
          <a:xfrm>
            <a:off x="3769920" y="6446880"/>
            <a:ext cx="52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European Commission - DG TREN, 200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mparison of Energy and Nuclear Research and Development Budgets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027080" y="1600200"/>
          <a:ext cx="70884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27080" y="1600200"/>
                    <a:ext cx="70884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4406760" y="6400440"/>
            <a:ext cx="4629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urce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:  Cordis and European Commi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ransport: No easy solutions out of the actual crises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nds for 70% of EU oil use &amp; is the fastest growing emittor of climate related ga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fficiency is far lower than in other sect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ating sector: 9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lectricity sector: 4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port sector: 10-12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re are no magic solutions (hydrogen, bio-fuels) but only a fundamental change in transport structure and behaviou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Raising the transport efficienc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viation: the impossible eq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oods transport: the Swiss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rban spurl and transportation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Efficiency standards for cars (60gr CO2/k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Impact of urban densities on transport energy demand</a:t>
            </a: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1116000" y="1628640"/>
          <a:ext cx="7056360" cy="44643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628640"/>
                    <a:ext cx="7056360" cy="446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0" y="6227280"/>
            <a:ext cx="122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Prof. Dr. Hermann Knoflacher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stitut für Verkehrsplanung und Verkehrstechnik, Technische Universität Wi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457200" y="1600200"/>
            <a:ext cx="8229600" cy="4525920"/>
            <a:chOff x="457200" y="1600200"/>
            <a:chExt cx="8229600" cy="4525920"/>
          </a:xfrm>
        </p:grpSpPr>
        <p:pic>
          <p:nvPicPr>
            <p:cNvPr id="142" name="" descr=""/>
            <p:cNvPicPr/>
            <p:nvPr/>
          </p:nvPicPr>
          <p:blipFill>
            <a:blip r:embed="rId2"/>
            <a:stretch/>
          </p:blipFill>
          <p:spPr>
            <a:xfrm>
              <a:off x="457200" y="1600200"/>
              <a:ext cx="8229600" cy="452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 txBox="1"/>
            <p:nvPr/>
          </p:nvSpPr>
          <p:spPr>
            <a:xfrm>
              <a:off x="457200" y="1600200"/>
              <a:ext cx="8229600" cy="4525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4" name=""/>
          <p:cNvSpPr/>
          <p:nvPr/>
        </p:nvSpPr>
        <p:spPr>
          <a:xfrm>
            <a:off x="4083840" y="6375240"/>
            <a:ext cx="50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: Pew Center on Global Climate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100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Biomass: the sleeping gia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uge potential for biomass use in Euro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indow of opportunity because of CAP refor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ority should be electricity sector not transport sect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o-fuel strategy has to be assessed on a well to wheel bas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generation of bio fuels more promising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115640" y="2563920"/>
            <a:ext cx="6769080" cy="34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lectricity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dro power, biomass, wind, geothermal, solar photovoltaic, solar thermal electricity, energy from waves, energy from sea currents, energy from osmoses, upwind power stations, and others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ccffff"/>
                </a:solidFill>
                <a:latin typeface="Arial"/>
              </a:rPr>
              <a:t>New initiatives in the transport sector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ll pricing of air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iss model for EU goods trans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el standards for new cars (60 g/km in 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shall plan on urban transport (EIB, structural fund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hape existing bio fuel direc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x relief for bio fuels until 20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&amp;D on second generation of bio f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XXI century: </a:t>
            </a:r>
            <a:br>
              <a:rPr sz="4000"/>
            </a:b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the Renewables centur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technolog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organisational sk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have the financial resour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 are in need of a stable investment climate – responsible politicians shoul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 NOW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17800" y="5816520"/>
            <a:ext cx="5108400" cy="9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1023480" y="2576520"/>
            <a:ext cx="7580520" cy="38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Heating and Coo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sive solar architecture, surplus low temperature energy from biomass co-generation, solar collectors for heating and cooling, geothermal (low temperature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ood pellets, dried biomass from energy cro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017800" y="39060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971640" y="2781000"/>
            <a:ext cx="73548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Fuel produc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lant oil, bio diesel RME, ethano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ynthetic fuels from bioma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Green Hydrogen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0" y="1484280"/>
            <a:ext cx="91440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GB" sz="4000" spc="-1" strike="noStrike">
                <a:solidFill>
                  <a:srgbClr val="ccffff"/>
                </a:solidFill>
                <a:latin typeface="Arial"/>
              </a:rPr>
              <a:t>21 different renewable technologies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wind energy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319040" y="1795320"/>
            <a:ext cx="6505920" cy="41338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394640" y="6171840"/>
            <a:ext cx="635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REC, 2005 - European Renewable Energy Counci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2"/>
              </a:rPr>
              <a:t>http://www.erec-renewables.org</a:t>
            </a:r>
            <a:r>
              <a:rPr b="0" lang="en-GB" sz="1800" spc="-1" strike="noStrike" u="sng">
                <a:solidFill>
                  <a:srgbClr val="66ccff"/>
                </a:solidFill>
                <a:uFillTx/>
                <a:latin typeface="Arial"/>
                <a:hlinkClick r:id="rId3"/>
              </a:rPr>
              <a:t>/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1700280" y="1314360"/>
          <a:ext cx="5743440" cy="3772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00280" y="1314360"/>
                    <a:ext cx="574344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1908000" y="5734080"/>
            <a:ext cx="5519880" cy="26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: Solar Generation (Greenpeace – EPI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15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ccffff"/>
                </a:solidFill>
                <a:latin typeface="Arial"/>
              </a:rPr>
              <a:t>Falling costs for PV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ff"/>
                </a:solidFill>
                <a:latin typeface="Arial"/>
              </a:rPr>
              <a:t>Job creation in the renewable energy sector is substantia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Investment replaces payments of oil, gas and coal impor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Arial"/>
              </a:rPr>
              <a:t>250.000 jobs  already toda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017800" y="347760"/>
            <a:ext cx="5108400" cy="99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Proportion of labour force in the  renewable energy sector by 2010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117440" y="1600200"/>
            <a:ext cx="6909120" cy="4525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566720" y="6301800"/>
            <a:ext cx="601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Sourc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: EC Mitre study, (http://mitre.energyprojects.net/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4T06:09:33Z</dcterms:created>
  <dc:creator>cturmes</dc:creator>
  <dc:description/>
  <dc:language>en-US</dc:language>
  <cp:lastModifiedBy>cturmes</cp:lastModifiedBy>
  <dcterms:modified xsi:type="dcterms:W3CDTF">2005-10-05T18:12:10Z</dcterms:modified>
  <cp:revision>12</cp:revision>
  <dc:subject/>
  <dc:title>21 renewable energies  for the XXI century </dc:title>
</cp:coreProperties>
</file>