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9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B85A-AB3A-475B-B6FE-F097CCB376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illustrate what is the concern and why wind is of interest from a supply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A98F-883D-4401-814B-E3604566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DC49-106E-4F91-AFAC-F6C00460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BAB6-2BA8-4303-B81C-4084D8C3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6B33-71C7-476D-9BE6-A07EBC4F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416-7D78-4C7F-8473-90633A60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56BC-4A5F-49EC-9371-A645270D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E110-644D-4323-AAE0-F1BA4513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E31-7407-43CB-A4DF-8322347D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C00-2AFC-4ACE-8A35-FC71F046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4F9-7101-425D-9AB4-E0CDC90C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0CDC-E1EE-4A81-A835-CF9A045C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29F1-E0BB-41CC-8D50-8B8DB826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43EC-4D3E-4492-9837-303A841F97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sv.or.at/" TargetMode="External"/><Relationship Id="rId3" Type="http://schemas.openxmlformats.org/officeDocument/2006/relationships/hyperlink" Target="http://www.esv.or.at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rec-renewables.org/" TargetMode="External"/><Relationship Id="rId3" Type="http://schemas.openxmlformats.org/officeDocument/2006/relationships/hyperlink" Target="http://www.erec-renewables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21 renewable energies </a:t>
            </a:r>
            <a:br>
              <a:rPr sz="5400"/>
            </a:b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for the XXI century</a:t>
            </a: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aude Tur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P, Vice President of EUF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547560"/>
            <a:ext cx="8569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1120" y="1295280"/>
          <a:ext cx="45291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95280"/>
                    <a:ext cx="4529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579680" y="4154400"/>
            <a:ext cx="49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1660" r="0" b="0"/>
          <a:stretch/>
        </p:blipFill>
        <p:spPr>
          <a:xfrm>
            <a:off x="4703760" y="1295280"/>
            <a:ext cx="4440240" cy="537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U has strong wind energy potential – onshore and offsho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240" y="6518160"/>
            <a:ext cx="40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Shell Renewables, EP 09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lobal wave power distrib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262560"/>
            <a:ext cx="83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nual average wave energy flux per unit width of wave crest (kilowatts per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209600"/>
            <a:ext cx="8382240" cy="503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27640" y="-169920"/>
            <a:ext cx="49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AquaEnergy Development UK, EP 09/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hare of renewables can grow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8% in 2005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  <a:ea typeface="Arial"/>
              </a:rPr>
              <a:t>►►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-25% until 20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illustrated in different studies ( European Commission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Forres 202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; Greenpeace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Energy revolu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called for by a  large majority vote in the EP on 28th September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ple benefits of renew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duce environmental stress (CO2, air pollution, no nuclear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hance security of supply (ease import dependency, reduce volatility of energy prices like 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reate jobs (250.000 today, big potential for rural are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crease competitiveness of EU economy (commercial balance, EU world leader in renewab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85075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ic approach to energy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 Energy Intelligent en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olicies are as important as supply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energy densities for heating &amp;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ensity energies like exceeding energy from electricity production or low temperature uses from low temperature to be preferred before electricity an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local renewable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energy production reduces losses in transmission and transportation and strengthens local econo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ing and Cooling: a majo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renewable en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ligent buildings as a precondition – 40 % of EU energy use is heating and coo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ass/geothermal based cogeneration as a tool for large scale penetration of renew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pellets: oil from EU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ar thermal: the next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olar cooling: a must for Southern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telligent buildings as a precondition: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– 40 % of EU energy use in heating and cooli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6096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8560" y="6374520"/>
            <a:ext cx="59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O.Ö. Energiesparverband 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esv.or.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ar-supported, integrated eco-efficient renov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large residential buildings and heat-supply-system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362800" cy="4276800"/>
        </p:xfrm>
        <a:graphic>
          <a:graphicData uri="http://schemas.openxmlformats.org/drawingml/2006/table">
            <a:tbl>
              <a:tblPr/>
              <a:tblGrid>
                <a:gridCol w="2890800"/>
                <a:gridCol w="5472000"/>
              </a:tblGrid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rcRect l="15186" t="8436" r="17717" b="5062"/>
          <a:stretch/>
        </p:blipFill>
        <p:spPr>
          <a:xfrm>
            <a:off x="539640" y="2100240"/>
            <a:ext cx="2664000" cy="25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03640" y="2039760"/>
          <a:ext cx="548316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039760"/>
                    <a:ext cx="54831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639960" y="630252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roject Solanova, presentation EP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ating and cooling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n existing EU build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gradually raising building codes for new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ting and cooling directive with a 2020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&amp;D technology platform on integrating decentralised renewables and insulation of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0 targets for CHP (under existing dir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subsidies for coal and gas heating and phase out electricity based heating and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 energy Marshall plan for building sector (EIB, structural f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n electricity: 30% and more are possible until 202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ergy intelligent appliances and electronics as a precondition for high shares of renew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nd: a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ean energy: the next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ar Thermal electricity: a brake-through so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entralised Green electricity: more than P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568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een Hydrog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084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566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or the XXIst Century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Electricity: fair market conditions</a:t>
            </a:r>
            <a:br>
              <a:rPr sz="4000"/>
            </a:b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for renewabl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hoose stable suppor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fair access to gr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that integration of renewables into the grid is a priority for grid operators and that costs are socialised to all consumers (see historical prece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istorsions in favour of coal (C02 allocations) and nuclear (EURATOM, decommissioning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ominance of big and dirty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wnership-Market Concentr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newable electricit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ssion has to enforce the exist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new targets for Green electricity in 20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labelling of electricity with public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new state aid rules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Regulate electricity market by a third set of directives (ownership unbundling, segregated decommissioning funds, diminution of market pow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a comprehensive gas policy (reducing gas from building sector, combine gas and wind over next 20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orth Sea offshore project between the relevant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2808360"/>
                <a:tab algn="l" pos="3056040"/>
                <a:tab algn="l" pos="330372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Administrative and grid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46800" y="907920"/>
            <a:ext cx="882720" cy="10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79720" y="907920"/>
            <a:ext cx="1066680" cy="99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9960" y="907920"/>
            <a:ext cx="905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4840" y="2060640"/>
          <a:ext cx="8127720" cy="4195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  <a:gridCol w="203184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IE, ES, SE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, NL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CZ, PL, SK, HU, LV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ES, SE, NL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        LT, CZ, SK, L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IE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PL, EE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769920" y="64468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European Commission - DG TREN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mparison of Energy and Nuclear Research and Development Budgets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27080" y="1600200"/>
          <a:ext cx="708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00200"/>
                    <a:ext cx="708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06760" y="640044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 Cordis and European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nsport: No easy solutions out of the actual cri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s for 70% of EU oil use &amp; is the fastest growing emittor of climate related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is far lower than in other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ting sector: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ctricity sector: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port sector: 10-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 magic solutions (hydrogen, bio-fuels) but only a fundamental change in transport structure and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ising the transport efficien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viation: the impossibl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s transport: the Swi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rban spurl and transportati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 standards for cars (60gr CO2/k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Impact of urban densities on transport energy demand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1628640"/>
          <a:ext cx="7056360" cy="44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05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6227280"/>
            <a:ext cx="12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Prof. Dr. Hermann Knoflacher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titut für Verkehrsplanung und Verkehrstechnik, Technische Universität W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083840" y="637524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ew Center on Global Climat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omass: the sleeping gi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potential for biomass use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 of opportunity because of CAP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should be electricity sector not transpor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-fuel strategy has to be assessed on a well to wheel b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eneration of bio fuels more promis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5640" y="2563920"/>
            <a:ext cx="6769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power, biomass, wind, geothermal, solar photovoltaic, solar thermal electricity, energy from waves, energy from sea currents, energy from osmoses, upwind power stations, and oth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New initiatives in the transport sect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pricing of air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model for EU goods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standards for new cars (60 g/km in 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hall plan on urban transport (EIB, structural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hape existing bio fuel dir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lief for bio fuels until 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on second generation of bio f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XXI centur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enewables centu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organisati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financi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 need of a stable investment climate – responsible politician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N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3480" y="2576520"/>
            <a:ext cx="75805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solar architecture, surplus low temperature energy from biomass co-generation, solar collectors for heating and cooling, geothermal (low temperature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 pellets, dried biomass from energy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78100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nt oil, bio diesel RME, ethan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hetic fuels from 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een Hydrog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wind energ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19040" y="1795320"/>
            <a:ext cx="6505920" cy="4133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94640" y="617184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REC, 2005 - European Renewable Energ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erec-renewables.org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00280" y="1314360"/>
          <a:ext cx="574344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14360"/>
                    <a:ext cx="57434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908000" y="5734080"/>
            <a:ext cx="5519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Solar Generation (Greenpeace – EP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PV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Job creation in the renewable energy sector is substant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vestment replaces payments of oil, gas and coal im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50.000 jobs  alread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roportion of labour force in the  renewable energy sector by 201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690912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66720" y="630180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C Mitre study, (http://mitre.energyprojects.net/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09:33Z</dcterms:created>
  <dc:creator>cturmes</dc:creator>
  <dc:description/>
  <dc:language>en-US</dc:language>
  <cp:lastModifiedBy>cturmes</cp:lastModifiedBy>
  <dcterms:modified xsi:type="dcterms:W3CDTF">2005-10-05T18:12:10Z</dcterms:modified>
  <cp:revision>12</cp:revision>
  <dc:subject/>
  <dc:title>21 renewable energies  for the XXI century </dc:title>
</cp:coreProperties>
</file>